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C9B-9E62-4D0F-A487-467295D7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D14-1A8F-4CD9-A8A7-438B47D7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0BA-988C-4E6E-9278-5E861997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8C8-9A72-4E8F-B237-A9F89FD2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F17-AE79-47FA-B840-D2D56EC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65D-8194-4F19-8016-1C393363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246-B504-4970-AFE9-3037341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B1D-C08F-4494-81CF-F7FC952B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B1F-3B1A-4DEC-8C61-254A930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E8C-C02C-4F37-ABF0-13033DB6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814-B14B-472B-99DA-47B4AB8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37B-A96A-4C50-8F2B-B867ED0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045A-F86C-4510-8DA6-3D6EC615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61680" y="29376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length of a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47560" y="17906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559080" y="1098720"/>
            <a:ext cx="8037360" cy="2330280"/>
            <a:chOff x="559080" y="1098720"/>
            <a:chExt cx="8037360" cy="2330280"/>
          </a:xfrm>
        </p:grpSpPr>
        <p:sp>
          <p:nvSpPr>
            <p:cNvPr id="49" name="Rectangle 9"/>
            <p:cNvSpPr/>
            <p:nvPr/>
          </p:nvSpPr>
          <p:spPr>
            <a:xfrm>
              <a:off x="559080" y="1098720"/>
              <a:ext cx="80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length of the hypotenuse of the right tri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5"/>
            <a:stretch/>
          </p:blipFill>
          <p:spPr>
            <a:xfrm>
              <a:off x="5776920" y="1519200"/>
              <a:ext cx="281952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26"/>
          <p:cNvGrpSpPr/>
          <p:nvPr/>
        </p:nvGrpSpPr>
        <p:grpSpPr>
          <a:xfrm>
            <a:off x="146520" y="2917800"/>
            <a:ext cx="4321080" cy="513720"/>
            <a:chOff x="146520" y="2917800"/>
            <a:chExt cx="4321080" cy="513720"/>
          </a:xfrm>
        </p:grpSpPr>
        <p:sp>
          <p:nvSpPr>
            <p:cNvPr id="52" name="Rectangle 12"/>
            <p:cNvSpPr/>
            <p:nvPr/>
          </p:nvSpPr>
          <p:spPr>
            <a:xfrm>
              <a:off x="146520" y="2917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220120" y="297180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524480" y="297180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928160" y="350532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10160" y="41832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+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901160" y="48610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007360" y="55389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495680" y="5562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519440" y="3570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4519440" y="4249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4520880" y="4929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459000" y="1100160"/>
            <a:ext cx="8227800" cy="4329000"/>
            <a:chOff x="459000" y="1100160"/>
            <a:chExt cx="8227800" cy="4329000"/>
          </a:xfrm>
        </p:grpSpPr>
        <p:sp>
          <p:nvSpPr>
            <p:cNvPr id="70" name="Rectangle 10"/>
            <p:cNvSpPr/>
            <p:nvPr/>
          </p:nvSpPr>
          <p:spPr>
            <a:xfrm>
              <a:off x="87156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6172200" y="3695760"/>
              <a:ext cx="25146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59000" y="1143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91440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52920" y="2895480"/>
            <a:ext cx="4378320" cy="493200"/>
            <a:chOff x="52920" y="2895480"/>
            <a:chExt cx="4378320" cy="493200"/>
          </a:xfrm>
        </p:grpSpPr>
        <p:sp>
          <p:nvSpPr>
            <p:cNvPr id="75" name="Rectangle 15"/>
            <p:cNvSpPr/>
            <p:nvPr/>
          </p:nvSpPr>
          <p:spPr>
            <a:xfrm>
              <a:off x="52920" y="289548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2183760" y="292896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7"/>
          <p:cNvSpPr/>
          <p:nvPr/>
        </p:nvSpPr>
        <p:spPr>
          <a:xfrm>
            <a:off x="4605480" y="29797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852560" y="356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847880" y="42451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838160" y="4923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951200" y="56008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05480" y="56307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4600440" y="36082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600440" y="428796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600440" y="49672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9 from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14760" y="6059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Leg;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534960" y="1066680"/>
            <a:ext cx="8151840" cy="4361040"/>
            <a:chOff x="534960" y="1066680"/>
            <a:chExt cx="8151840" cy="4361040"/>
          </a:xfrm>
        </p:grpSpPr>
        <p:sp>
          <p:nvSpPr>
            <p:cNvPr id="94" name="Rectangle 7"/>
            <p:cNvSpPr/>
            <p:nvPr/>
          </p:nvSpPr>
          <p:spPr>
            <a:xfrm>
              <a:off x="94788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5"/>
            <a:stretch/>
          </p:blipFill>
          <p:spPr>
            <a:xfrm>
              <a:off x="6095880" y="3732120"/>
              <a:ext cx="2438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534960" y="106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977760" y="25020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5"/>
          <p:cNvGrpSpPr/>
          <p:nvPr/>
        </p:nvGrpSpPr>
        <p:grpSpPr>
          <a:xfrm>
            <a:off x="84600" y="2971800"/>
            <a:ext cx="4361040" cy="493200"/>
            <a:chOff x="84600" y="2971800"/>
            <a:chExt cx="4361040" cy="493200"/>
          </a:xfrm>
        </p:grpSpPr>
        <p:sp>
          <p:nvSpPr>
            <p:cNvPr id="99" name="Rectangle 12"/>
            <p:cNvSpPr/>
            <p:nvPr/>
          </p:nvSpPr>
          <p:spPr>
            <a:xfrm>
              <a:off x="84600" y="2971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198160" y="300528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4619520" y="3056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866960" y="3643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862280" y="432108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852560" y="49989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19520" y="567684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14840" y="3684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14840" y="43639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614840" y="50436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1965240" y="5580000"/>
            <a:ext cx="1277640" cy="461520"/>
            <a:chOff x="1965240" y="5580000"/>
            <a:chExt cx="1277640" cy="461520"/>
          </a:xfrm>
        </p:grpSpPr>
        <p:sp>
          <p:nvSpPr>
            <p:cNvPr id="110" name="Rectangle 18"/>
            <p:cNvSpPr/>
            <p:nvPr/>
          </p:nvSpPr>
          <p:spPr>
            <a:xfrm>
              <a:off x="1965240" y="558000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42"/>
            <p:cNvGrpSpPr/>
            <p:nvPr/>
          </p:nvGrpSpPr>
          <p:grpSpPr>
            <a:xfrm>
              <a:off x="2666880" y="5581800"/>
              <a:ext cx="576000" cy="459720"/>
              <a:chOff x="2666880" y="5581800"/>
              <a:chExt cx="576000" cy="45972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757240" y="558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4"/>
              <p:cNvSpPr/>
              <p:nvPr/>
            </p:nvSpPr>
            <p:spPr>
              <a:xfrm>
                <a:off x="2666880" y="5727960"/>
                <a:ext cx="7632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 flipV="1">
                <a:off x="2743200" y="5663880"/>
                <a:ext cx="88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2832120" y="566424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41"/>
          <p:cNvGrpSpPr/>
          <p:nvPr/>
        </p:nvGrpSpPr>
        <p:grpSpPr>
          <a:xfrm>
            <a:off x="1814760" y="6076800"/>
            <a:ext cx="2833920" cy="459720"/>
            <a:chOff x="1814760" y="6076800"/>
            <a:chExt cx="2833920" cy="459720"/>
          </a:xfrm>
        </p:grpSpPr>
        <p:sp>
          <p:nvSpPr>
            <p:cNvPr id="117" name="Text Box 30"/>
            <p:cNvSpPr/>
            <p:nvPr/>
          </p:nvSpPr>
          <p:spPr>
            <a:xfrm>
              <a:off x="1814760" y="6076800"/>
              <a:ext cx="22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hypotenuse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40"/>
            <p:cNvGrpSpPr/>
            <p:nvPr/>
          </p:nvGrpSpPr>
          <p:grpSpPr>
            <a:xfrm>
              <a:off x="4038480" y="6076800"/>
              <a:ext cx="610200" cy="459720"/>
              <a:chOff x="4038480" y="6076800"/>
              <a:chExt cx="610200" cy="45972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4038480" y="6230880"/>
                <a:ext cx="76320" cy="164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3"/>
              <p:cNvSpPr/>
              <p:nvPr/>
            </p:nvSpPr>
            <p:spPr>
              <a:xfrm>
                <a:off x="4129560" y="6076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1a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4114800" y="6160680"/>
                <a:ext cx="8892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4203720" y="6161040"/>
                <a:ext cx="3556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03:45Z</dcterms:created>
  <dc:creator>amitp</dc:creator>
  <dc:description/>
  <dc:language>en-US</dc:language>
  <cp:lastModifiedBy>Owner</cp:lastModifiedBy>
  <dcterms:modified xsi:type="dcterms:W3CDTF">2010-09-04T23:30:04Z</dcterms:modified>
  <cp:revision>22</cp:revision>
  <dc:subject/>
  <dc:title>PowerPoint Presentation</dc:title>
</cp:coreProperties>
</file>