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9C7-2C83-4ECD-A028-27D800A9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FE0-F0D0-4B8B-B508-E4AFB727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F11-250E-41B4-91BC-24ABD9AA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0AF-E568-4BFB-8139-8771F385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CF5-2552-4DA1-96ED-A0ECED6F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54E-E141-4A2C-AA6E-B9EBF018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776-762A-4D84-8DB9-9B439ACD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F8B-201A-4485-984A-50BD81B1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17A-A173-4F95-8585-37084A80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AE3-E398-4ED6-B8E8-8D5D9A44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A80-183C-4217-AA83-D1E0B866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430-C20A-4EE9-A903-86980EDC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4385-B1C8-4749-A554-6A7F35986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61680" y="293760"/>
            <a:ext cx="42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length of a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547560" y="17906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24"/>
          <p:cNvGrpSpPr/>
          <p:nvPr/>
        </p:nvGrpSpPr>
        <p:grpSpPr>
          <a:xfrm>
            <a:off x="559080" y="1098720"/>
            <a:ext cx="8037360" cy="2330280"/>
            <a:chOff x="559080" y="1098720"/>
            <a:chExt cx="8037360" cy="2330280"/>
          </a:xfrm>
        </p:grpSpPr>
        <p:sp>
          <p:nvSpPr>
            <p:cNvPr id="49" name="Rectangle 9"/>
            <p:cNvSpPr/>
            <p:nvPr/>
          </p:nvSpPr>
          <p:spPr>
            <a:xfrm>
              <a:off x="559080" y="1098720"/>
              <a:ext cx="80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length of the hypotenuse of the right tri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5"/>
            <a:stretch/>
          </p:blipFill>
          <p:spPr>
            <a:xfrm>
              <a:off x="5776920" y="1519200"/>
              <a:ext cx="2819520" cy="190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26"/>
          <p:cNvGrpSpPr/>
          <p:nvPr/>
        </p:nvGrpSpPr>
        <p:grpSpPr>
          <a:xfrm>
            <a:off x="146520" y="2917800"/>
            <a:ext cx="4321080" cy="513720"/>
            <a:chOff x="146520" y="2917800"/>
            <a:chExt cx="4321080" cy="513720"/>
          </a:xfrm>
        </p:grpSpPr>
        <p:sp>
          <p:nvSpPr>
            <p:cNvPr id="52" name="Rectangle 12"/>
            <p:cNvSpPr/>
            <p:nvPr/>
          </p:nvSpPr>
          <p:spPr>
            <a:xfrm>
              <a:off x="146520" y="291780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2220120" y="297180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14"/>
          <p:cNvSpPr/>
          <p:nvPr/>
        </p:nvSpPr>
        <p:spPr>
          <a:xfrm>
            <a:off x="4524480" y="297180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928160" y="350532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910160" y="418320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6 +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1901160" y="486108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2007360" y="55389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495680" y="5562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4519440" y="35701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4519440" y="42498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4520880" y="49291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31"/>
          <p:cNvGrpSpPr/>
          <p:nvPr/>
        </p:nvGrpSpPr>
        <p:grpSpPr>
          <a:xfrm>
            <a:off x="459000" y="1100160"/>
            <a:ext cx="8227800" cy="4329000"/>
            <a:chOff x="459000" y="1100160"/>
            <a:chExt cx="8227800" cy="4329000"/>
          </a:xfrm>
        </p:grpSpPr>
        <p:sp>
          <p:nvSpPr>
            <p:cNvPr id="70" name="Rectangle 10"/>
            <p:cNvSpPr/>
            <p:nvPr/>
          </p:nvSpPr>
          <p:spPr>
            <a:xfrm>
              <a:off x="871560" y="1100160"/>
              <a:ext cx="77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the unknown side as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e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n, find the unknown side length of the right triangle. Write your answer in simplest radical for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Picture 12" descr=""/>
            <p:cNvPicPr/>
            <p:nvPr/>
          </p:nvPicPr>
          <p:blipFill>
            <a:blip r:embed="rId5"/>
            <a:stretch/>
          </p:blipFill>
          <p:spPr>
            <a:xfrm>
              <a:off x="6172200" y="3695760"/>
              <a:ext cx="251460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459000" y="11430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Rectangle 14"/>
          <p:cNvSpPr/>
          <p:nvPr/>
        </p:nvSpPr>
        <p:spPr>
          <a:xfrm>
            <a:off x="91440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0"/>
          <p:cNvGrpSpPr/>
          <p:nvPr/>
        </p:nvGrpSpPr>
        <p:grpSpPr>
          <a:xfrm>
            <a:off x="52920" y="2895480"/>
            <a:ext cx="4378320" cy="493200"/>
            <a:chOff x="52920" y="2895480"/>
            <a:chExt cx="4378320" cy="493200"/>
          </a:xfrm>
        </p:grpSpPr>
        <p:sp>
          <p:nvSpPr>
            <p:cNvPr id="75" name="Rectangle 15"/>
            <p:cNvSpPr/>
            <p:nvPr/>
          </p:nvSpPr>
          <p:spPr>
            <a:xfrm>
              <a:off x="52920" y="289548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2183760" y="292896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7"/>
          <p:cNvSpPr/>
          <p:nvPr/>
        </p:nvSpPr>
        <p:spPr>
          <a:xfrm>
            <a:off x="4605480" y="29797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852560" y="35672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847880" y="4245120"/>
            <a:ext cx="16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1838160" y="4923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1951200" y="5600880"/>
            <a:ext cx="9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4605480" y="563076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4600440" y="36082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4600440" y="4287960"/>
            <a:ext cx="12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5"/>
          <p:cNvSpPr/>
          <p:nvPr/>
        </p:nvSpPr>
        <p:spPr>
          <a:xfrm>
            <a:off x="4600440" y="4967280"/>
            <a:ext cx="218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9 from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1814760" y="6059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Leg;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44"/>
          <p:cNvGrpSpPr/>
          <p:nvPr/>
        </p:nvGrpSpPr>
        <p:grpSpPr>
          <a:xfrm>
            <a:off x="534960" y="1066680"/>
            <a:ext cx="8151840" cy="4361040"/>
            <a:chOff x="534960" y="1066680"/>
            <a:chExt cx="8151840" cy="4361040"/>
          </a:xfrm>
        </p:grpSpPr>
        <p:sp>
          <p:nvSpPr>
            <p:cNvPr id="94" name="Rectangle 7"/>
            <p:cNvSpPr/>
            <p:nvPr/>
          </p:nvSpPr>
          <p:spPr>
            <a:xfrm>
              <a:off x="947880" y="1100160"/>
              <a:ext cx="77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the unknown side as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e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n, find the unknown side length of the right triangle. Write your answer in simplest radical for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Picture 9" descr=""/>
            <p:cNvPicPr/>
            <p:nvPr/>
          </p:nvPicPr>
          <p:blipFill>
            <a:blip r:embed="rId5"/>
            <a:stretch/>
          </p:blipFill>
          <p:spPr>
            <a:xfrm>
              <a:off x="6095880" y="3732120"/>
              <a:ext cx="243864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8"/>
            <p:cNvSpPr/>
            <p:nvPr/>
          </p:nvSpPr>
          <p:spPr>
            <a:xfrm>
              <a:off x="534960" y="1066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>
            <a:off x="977760" y="25020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5"/>
          <p:cNvGrpSpPr/>
          <p:nvPr/>
        </p:nvGrpSpPr>
        <p:grpSpPr>
          <a:xfrm>
            <a:off x="84600" y="2971800"/>
            <a:ext cx="4361040" cy="493200"/>
            <a:chOff x="84600" y="2971800"/>
            <a:chExt cx="4361040" cy="493200"/>
          </a:xfrm>
        </p:grpSpPr>
        <p:sp>
          <p:nvSpPr>
            <p:cNvPr id="99" name="Rectangle 12"/>
            <p:cNvSpPr/>
            <p:nvPr/>
          </p:nvSpPr>
          <p:spPr>
            <a:xfrm>
              <a:off x="84600" y="297180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198160" y="300528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14"/>
          <p:cNvSpPr/>
          <p:nvPr/>
        </p:nvSpPr>
        <p:spPr>
          <a:xfrm>
            <a:off x="4619520" y="3056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866960" y="36432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862280" y="4321080"/>
            <a:ext cx="16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6 +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1852560" y="499896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4619520" y="5676840"/>
            <a:ext cx="38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4614840" y="368460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4614840" y="4363920"/>
            <a:ext cx="12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4614840" y="504360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1965240" y="5580000"/>
            <a:ext cx="1277640" cy="461520"/>
            <a:chOff x="1965240" y="5580000"/>
            <a:chExt cx="1277640" cy="461520"/>
          </a:xfrm>
        </p:grpSpPr>
        <p:sp>
          <p:nvSpPr>
            <p:cNvPr id="110" name="Rectangle 18"/>
            <p:cNvSpPr/>
            <p:nvPr/>
          </p:nvSpPr>
          <p:spPr>
            <a:xfrm>
              <a:off x="1965240" y="5580000"/>
              <a:ext cx="95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42"/>
            <p:cNvGrpSpPr/>
            <p:nvPr/>
          </p:nvGrpSpPr>
          <p:grpSpPr>
            <a:xfrm>
              <a:off x="2666880" y="5581800"/>
              <a:ext cx="576000" cy="459720"/>
              <a:chOff x="2666880" y="5581800"/>
              <a:chExt cx="576000" cy="459720"/>
            </a:xfrm>
          </p:grpSpPr>
          <p:sp>
            <p:nvSpPr>
              <p:cNvPr id="112" name="Text Box 23"/>
              <p:cNvSpPr/>
              <p:nvPr/>
            </p:nvSpPr>
            <p:spPr>
              <a:xfrm>
                <a:off x="2757240" y="55818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4"/>
              <p:cNvSpPr/>
              <p:nvPr/>
            </p:nvSpPr>
            <p:spPr>
              <a:xfrm>
                <a:off x="2666880" y="5727960"/>
                <a:ext cx="7632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5"/>
              <p:cNvSpPr/>
              <p:nvPr/>
            </p:nvSpPr>
            <p:spPr>
              <a:xfrm flipV="1">
                <a:off x="2743200" y="5663880"/>
                <a:ext cx="88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6"/>
              <p:cNvSpPr/>
              <p:nvPr/>
            </p:nvSpPr>
            <p:spPr>
              <a:xfrm>
                <a:off x="2832120" y="566424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Group 41"/>
          <p:cNvGrpSpPr/>
          <p:nvPr/>
        </p:nvGrpSpPr>
        <p:grpSpPr>
          <a:xfrm>
            <a:off x="1814760" y="6076800"/>
            <a:ext cx="2833920" cy="459720"/>
            <a:chOff x="1814760" y="6076800"/>
            <a:chExt cx="2833920" cy="459720"/>
          </a:xfrm>
        </p:grpSpPr>
        <p:sp>
          <p:nvSpPr>
            <p:cNvPr id="117" name="Text Box 30"/>
            <p:cNvSpPr/>
            <p:nvPr/>
          </p:nvSpPr>
          <p:spPr>
            <a:xfrm>
              <a:off x="1814760" y="6076800"/>
              <a:ext cx="224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hypotenuse;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40"/>
            <p:cNvGrpSpPr/>
            <p:nvPr/>
          </p:nvGrpSpPr>
          <p:grpSpPr>
            <a:xfrm>
              <a:off x="4038480" y="6076800"/>
              <a:ext cx="610200" cy="459720"/>
              <a:chOff x="4038480" y="6076800"/>
              <a:chExt cx="610200" cy="459720"/>
            </a:xfrm>
          </p:grpSpPr>
          <p:sp>
            <p:nvSpPr>
              <p:cNvPr id="119" name="Line 34"/>
              <p:cNvSpPr/>
              <p:nvPr/>
            </p:nvSpPr>
            <p:spPr>
              <a:xfrm>
                <a:off x="4038480" y="6230880"/>
                <a:ext cx="76320" cy="1648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33"/>
              <p:cNvSpPr/>
              <p:nvPr/>
            </p:nvSpPr>
            <p:spPr>
              <a:xfrm>
                <a:off x="4129560" y="6076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1a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4114800" y="6160680"/>
                <a:ext cx="88920" cy="2286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6"/>
              <p:cNvSpPr/>
              <p:nvPr/>
            </p:nvSpPr>
            <p:spPr>
              <a:xfrm>
                <a:off x="4203720" y="6161040"/>
                <a:ext cx="3556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4:03:45Z</dcterms:created>
  <dc:creator>amitp</dc:creator>
  <dc:description/>
  <dc:language>en-US</dc:language>
  <cp:lastModifiedBy>Owner</cp:lastModifiedBy>
  <dcterms:modified xsi:type="dcterms:W3CDTF">2010-09-04T23:30:04Z</dcterms:modified>
  <cp:revision>22</cp:revision>
  <dc:subject/>
  <dc:title>PowerPoint Presentation</dc:title>
</cp:coreProperties>
</file>