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2446-E010-4F09-891B-CAC1EBC30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1397-C914-41D1-8589-55756884C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905-0EAE-46D5-9BB8-9580BFE4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A121-AB9A-4134-AA96-9C6CEC79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B85F-54BD-47C7-925C-77407899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582-AAAB-46EE-B90D-9536C53E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F2B0-88E7-44DD-826A-F080F23B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209F-5BF7-4C6F-A231-42C743AA1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38A4-D06F-4B2F-B938-910497B6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78B-CD0C-4FD2-B4D2-9B3845F2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41F6-EAF0-4339-BBEC-9BED471E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A0F1-9A32-461D-9A4C-8650E088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B511-51A6-4053-969F-CC43C25AE3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609480" y="1143000"/>
            <a:ext cx="8001000" cy="2581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3"/>
          <p:cNvSpPr/>
          <p:nvPr/>
        </p:nvSpPr>
        <p:spPr>
          <a:xfrm>
            <a:off x="585720" y="40435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85800" y="497664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0"/>
          <p:cNvGrpSpPr/>
          <p:nvPr/>
        </p:nvGrpSpPr>
        <p:grpSpPr>
          <a:xfrm>
            <a:off x="2462040" y="4976640"/>
            <a:ext cx="4905720" cy="828720"/>
            <a:chOff x="2462040" y="4976640"/>
            <a:chExt cx="4905720" cy="828720"/>
          </a:xfrm>
        </p:grpSpPr>
        <p:pic>
          <p:nvPicPr>
            <p:cNvPr id="51" name="Picture 25" descr=""/>
            <p:cNvPicPr/>
            <p:nvPr/>
          </p:nvPicPr>
          <p:blipFill>
            <a:blip r:embed="rId7"/>
            <a:stretch/>
          </p:blipFill>
          <p:spPr>
            <a:xfrm>
              <a:off x="3124080" y="497664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6" descr=""/>
            <p:cNvPicPr/>
            <p:nvPr/>
          </p:nvPicPr>
          <p:blipFill>
            <a:blip r:embed="rId8"/>
            <a:stretch/>
          </p:blipFill>
          <p:spPr>
            <a:xfrm>
              <a:off x="5891040" y="499572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8"/>
            <p:cNvSpPr/>
            <p:nvPr/>
          </p:nvSpPr>
          <p:spPr>
            <a:xfrm>
              <a:off x="24620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29"/>
            <p:cNvSpPr/>
            <p:nvPr/>
          </p:nvSpPr>
          <p:spPr>
            <a:xfrm>
              <a:off x="52052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43440" y="3278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52800" y="1646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52800" y="21747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49560" y="270360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71680" y="1114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953520" y="3860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810360" y="1600200"/>
            <a:ext cx="16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49880" y="21337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= 16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801000" y="3833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0"/>
          <p:cNvGrpSpPr/>
          <p:nvPr/>
        </p:nvGrpSpPr>
        <p:grpSpPr>
          <a:xfrm>
            <a:off x="561960" y="3200400"/>
            <a:ext cx="1265760" cy="552240"/>
            <a:chOff x="561960" y="3200400"/>
            <a:chExt cx="1265760" cy="552240"/>
          </a:xfrm>
        </p:grpSpPr>
        <p:graphicFrame>
          <p:nvGraphicFramePr>
            <p:cNvPr id="71" name="Object 29"/>
            <p:cNvGraphicFramePr/>
            <p:nvPr/>
          </p:nvGraphicFramePr>
          <p:xfrm>
            <a:off x="561960" y="3200400"/>
            <a:ext cx="914400" cy="55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3200400"/>
                      <a:ext cx="9144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26"/>
            <p:cNvSpPr/>
            <p:nvPr/>
          </p:nvSpPr>
          <p:spPr>
            <a:xfrm>
              <a:off x="653040" y="324324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0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Rectangle 27"/>
          <p:cNvSpPr/>
          <p:nvPr/>
        </p:nvSpPr>
        <p:spPr>
          <a:xfrm>
            <a:off x="750240" y="26668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609840" y="4495680"/>
            <a:ext cx="7801920" cy="1907640"/>
            <a:chOff x="609840" y="4495680"/>
            <a:chExt cx="7801920" cy="1907640"/>
          </a:xfrm>
        </p:grpSpPr>
        <p:grpSp>
          <p:nvGrpSpPr>
            <p:cNvPr id="76" name="Group 31"/>
            <p:cNvGrpSpPr/>
            <p:nvPr/>
          </p:nvGrpSpPr>
          <p:grpSpPr>
            <a:xfrm>
              <a:off x="613080" y="4495680"/>
              <a:ext cx="7798680" cy="1430640"/>
              <a:chOff x="613080" y="4495680"/>
              <a:chExt cx="7798680" cy="143064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13080" y="4495680"/>
                <a:ext cx="153252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17400" y="5100840"/>
                <a:ext cx="779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ladder is resting against the house at abou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.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feet above the groun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Rectangle 34"/>
            <p:cNvSpPr/>
            <p:nvPr/>
          </p:nvSpPr>
          <p:spPr>
            <a:xfrm>
              <a:off x="609840" y="5943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ct answer is 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5" descr=""/>
            <p:cNvPicPr/>
            <p:nvPr/>
          </p:nvPicPr>
          <p:blipFill>
            <a:blip r:embed="rId7"/>
            <a:stretch/>
          </p:blipFill>
          <p:spPr>
            <a:xfrm>
              <a:off x="4303800" y="6040440"/>
              <a:ext cx="212400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38080" y="127620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p of a ladder rests against a wal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bove the ground. The base of the ladder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way from the wall. What is the length of the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6640" y="1247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5720" y="29718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5"/>
          <a:stretch/>
        </p:blipFill>
        <p:spPr>
          <a:xfrm>
            <a:off x="685800" y="390528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8"/>
          <p:cNvGrpSpPr/>
          <p:nvPr/>
        </p:nvGrpSpPr>
        <p:grpSpPr>
          <a:xfrm>
            <a:off x="2462040" y="3905280"/>
            <a:ext cx="4905720" cy="828720"/>
            <a:chOff x="2462040" y="3905280"/>
            <a:chExt cx="4905720" cy="828720"/>
          </a:xfrm>
        </p:grpSpPr>
        <p:pic>
          <p:nvPicPr>
            <p:cNvPr id="92" name="Picture 14" descr=""/>
            <p:cNvPicPr/>
            <p:nvPr/>
          </p:nvPicPr>
          <p:blipFill>
            <a:blip r:embed="rId6"/>
            <a:stretch/>
          </p:blipFill>
          <p:spPr>
            <a:xfrm>
              <a:off x="3124080" y="390528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"/>
            <p:cNvPicPr/>
            <p:nvPr/>
          </p:nvPicPr>
          <p:blipFill>
            <a:blip r:embed="rId7"/>
            <a:stretch/>
          </p:blipFill>
          <p:spPr>
            <a:xfrm>
              <a:off x="5891040" y="392436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6"/>
            <p:cNvSpPr/>
            <p:nvPr/>
          </p:nvSpPr>
          <p:spPr>
            <a:xfrm>
              <a:off x="24620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52052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171440" y="14619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2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166760" y="213984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171440" y="281772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270080" y="349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3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962520" y="15098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62520" y="21812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3963240" y="350028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3962520" y="28144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1146240" y="4211640"/>
            <a:ext cx="1977480" cy="1199520"/>
            <a:chOff x="1146240" y="4211640"/>
            <a:chExt cx="1977480" cy="1199520"/>
          </a:xfrm>
        </p:grpSpPr>
        <p:sp>
          <p:nvSpPr>
            <p:cNvPr id="111" name="Text Box 27"/>
            <p:cNvSpPr/>
            <p:nvPr/>
          </p:nvSpPr>
          <p:spPr>
            <a:xfrm>
              <a:off x="1146240" y="49514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bout 23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209960" y="42116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66640" y="1100160"/>
            <a:ext cx="78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ythagorean Theorem is only true for what type of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840" y="110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88240" y="2133720"/>
            <a:ext cx="2046240" cy="1145520"/>
            <a:chOff x="588240" y="2133720"/>
            <a:chExt cx="2046240" cy="1145520"/>
          </a:xfrm>
        </p:grpSpPr>
        <p:sp>
          <p:nvSpPr>
            <p:cNvPr id="122" name="Text Box 9"/>
            <p:cNvSpPr/>
            <p:nvPr/>
          </p:nvSpPr>
          <p:spPr>
            <a:xfrm>
              <a:off x="588240" y="281952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ight 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68940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29:48Z</dcterms:created>
  <dc:creator>amitp</dc:creator>
  <dc:description/>
  <dc:language>en-US</dc:language>
  <cp:lastModifiedBy>Owner</cp:lastModifiedBy>
  <dcterms:modified xsi:type="dcterms:W3CDTF">2010-09-04T23:30:27Z</dcterms:modified>
  <cp:revision>31</cp:revision>
  <dc:subject/>
  <dc:title>PowerPoint Presentation</dc:title>
</cp:coreProperties>
</file>