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E93-130F-40E8-80CE-044758C9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583-7C37-4D53-8F28-EBBE64C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E06-6173-4682-AD74-497BF637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B87-3375-45DD-9847-D1D06CC3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63C-D425-4F95-B0A4-773F31B5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3F1-6D0B-4D0A-A8ED-E8D31DB9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38A-942A-4207-8611-3F85859C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813-BA47-46E2-9D46-321D7484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0D2-70F4-47D7-8415-B035DAAE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C16-7FBF-4059-BCCE-C6A7D96C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013-7DB6-40D9-92D6-991CEAC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03C-2075-4829-A7E4-D45BA12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F10E-35B6-4ECD-8D6A-B7F59C27D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9520" y="293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5"/>
          <a:stretch/>
        </p:blipFill>
        <p:spPr>
          <a:xfrm>
            <a:off x="609480" y="1143000"/>
            <a:ext cx="8001000" cy="2581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3"/>
          <p:cNvSpPr/>
          <p:nvPr/>
        </p:nvSpPr>
        <p:spPr>
          <a:xfrm>
            <a:off x="585720" y="40435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685800" y="4976640"/>
            <a:ext cx="1486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0"/>
          <p:cNvGrpSpPr/>
          <p:nvPr/>
        </p:nvGrpSpPr>
        <p:grpSpPr>
          <a:xfrm>
            <a:off x="2462040" y="4976640"/>
            <a:ext cx="4905720" cy="828720"/>
            <a:chOff x="2462040" y="4976640"/>
            <a:chExt cx="4905720" cy="828720"/>
          </a:xfrm>
        </p:grpSpPr>
        <p:pic>
          <p:nvPicPr>
            <p:cNvPr id="51" name="Picture 25" descr=""/>
            <p:cNvPicPr/>
            <p:nvPr/>
          </p:nvPicPr>
          <p:blipFill>
            <a:blip r:embed="rId7"/>
            <a:stretch/>
          </p:blipFill>
          <p:spPr>
            <a:xfrm>
              <a:off x="3124080" y="4976640"/>
              <a:ext cx="1733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6" descr=""/>
            <p:cNvPicPr/>
            <p:nvPr/>
          </p:nvPicPr>
          <p:blipFill>
            <a:blip r:embed="rId8"/>
            <a:stretch/>
          </p:blipFill>
          <p:spPr>
            <a:xfrm>
              <a:off x="5891040" y="4995720"/>
              <a:ext cx="147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8"/>
            <p:cNvSpPr/>
            <p:nvPr/>
          </p:nvSpPr>
          <p:spPr>
            <a:xfrm>
              <a:off x="2462040" y="514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29"/>
            <p:cNvSpPr/>
            <p:nvPr/>
          </p:nvSpPr>
          <p:spPr>
            <a:xfrm>
              <a:off x="5205240" y="514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459520" y="293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943440" y="3278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952800" y="1646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952800" y="21747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949560" y="270360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71680" y="1114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3953520" y="386064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pproximate with a calc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810360" y="1600200"/>
            <a:ext cx="16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749880" y="21337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= 16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801000" y="3833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49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0"/>
          <p:cNvGrpSpPr/>
          <p:nvPr/>
        </p:nvGrpSpPr>
        <p:grpSpPr>
          <a:xfrm>
            <a:off x="561960" y="3200400"/>
            <a:ext cx="1265760" cy="552240"/>
            <a:chOff x="561960" y="3200400"/>
            <a:chExt cx="1265760" cy="552240"/>
          </a:xfrm>
        </p:grpSpPr>
        <p:graphicFrame>
          <p:nvGraphicFramePr>
            <p:cNvPr id="71" name="Object 29"/>
            <p:cNvGraphicFramePr/>
            <p:nvPr/>
          </p:nvGraphicFramePr>
          <p:xfrm>
            <a:off x="561960" y="3200400"/>
            <a:ext cx="914400" cy="55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60" y="3200400"/>
                      <a:ext cx="91440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26"/>
            <p:cNvSpPr/>
            <p:nvPr/>
          </p:nvSpPr>
          <p:spPr>
            <a:xfrm>
              <a:off x="653040" y="3243240"/>
              <a:ext cx="11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0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Rectangle 27"/>
          <p:cNvSpPr/>
          <p:nvPr/>
        </p:nvSpPr>
        <p:spPr>
          <a:xfrm>
            <a:off x="750240" y="26668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36"/>
          <p:cNvGrpSpPr/>
          <p:nvPr/>
        </p:nvGrpSpPr>
        <p:grpSpPr>
          <a:xfrm>
            <a:off x="609840" y="4495680"/>
            <a:ext cx="7801920" cy="1907640"/>
            <a:chOff x="609840" y="4495680"/>
            <a:chExt cx="7801920" cy="1907640"/>
          </a:xfrm>
        </p:grpSpPr>
        <p:grpSp>
          <p:nvGrpSpPr>
            <p:cNvPr id="76" name="Group 31"/>
            <p:cNvGrpSpPr/>
            <p:nvPr/>
          </p:nvGrpSpPr>
          <p:grpSpPr>
            <a:xfrm>
              <a:off x="613080" y="4495680"/>
              <a:ext cx="7798680" cy="1430640"/>
              <a:chOff x="613080" y="4495680"/>
              <a:chExt cx="7798680" cy="1430640"/>
            </a:xfrm>
          </p:grpSpPr>
          <p:sp>
            <p:nvSpPr>
              <p:cNvPr id="77" name="Rectangle 32"/>
              <p:cNvSpPr/>
              <p:nvPr/>
            </p:nvSpPr>
            <p:spPr>
              <a:xfrm>
                <a:off x="613080" y="4495680"/>
                <a:ext cx="153252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33"/>
              <p:cNvSpPr/>
              <p:nvPr/>
            </p:nvSpPr>
            <p:spPr>
              <a:xfrm>
                <a:off x="617400" y="5100840"/>
                <a:ext cx="779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ladder is resting against the house at abou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.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feet above the groun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Rectangle 34"/>
            <p:cNvSpPr/>
            <p:nvPr/>
          </p:nvSpPr>
          <p:spPr>
            <a:xfrm>
              <a:off x="609840" y="5943600"/>
              <a:ext cx="37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ct answer is 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Picture 35" descr=""/>
            <p:cNvPicPr/>
            <p:nvPr/>
          </p:nvPicPr>
          <p:blipFill>
            <a:blip r:embed="rId7"/>
            <a:stretch/>
          </p:blipFill>
          <p:spPr>
            <a:xfrm>
              <a:off x="4303800" y="6040440"/>
              <a:ext cx="212400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38080" y="127620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p of a ladder rests against a wal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bove the ground. The base of the ladder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way from the wall. What is the length of the lad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66640" y="12477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85720" y="29718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5"/>
          <a:stretch/>
        </p:blipFill>
        <p:spPr>
          <a:xfrm>
            <a:off x="685800" y="3905280"/>
            <a:ext cx="1486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8"/>
          <p:cNvGrpSpPr/>
          <p:nvPr/>
        </p:nvGrpSpPr>
        <p:grpSpPr>
          <a:xfrm>
            <a:off x="2462040" y="3905280"/>
            <a:ext cx="4905720" cy="828720"/>
            <a:chOff x="2462040" y="3905280"/>
            <a:chExt cx="4905720" cy="828720"/>
          </a:xfrm>
        </p:grpSpPr>
        <p:pic>
          <p:nvPicPr>
            <p:cNvPr id="92" name="Picture 14" descr=""/>
            <p:cNvPicPr/>
            <p:nvPr/>
          </p:nvPicPr>
          <p:blipFill>
            <a:blip r:embed="rId6"/>
            <a:stretch/>
          </p:blipFill>
          <p:spPr>
            <a:xfrm>
              <a:off x="3124080" y="3905280"/>
              <a:ext cx="1733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5" descr=""/>
            <p:cNvPicPr/>
            <p:nvPr/>
          </p:nvPicPr>
          <p:blipFill>
            <a:blip r:embed="rId7"/>
            <a:stretch/>
          </p:blipFill>
          <p:spPr>
            <a:xfrm>
              <a:off x="5891040" y="3924360"/>
              <a:ext cx="147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6"/>
            <p:cNvSpPr/>
            <p:nvPr/>
          </p:nvSpPr>
          <p:spPr>
            <a:xfrm>
              <a:off x="2462040" y="407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5205240" y="407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171440" y="14619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2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166760" y="213984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171440" y="281772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270080" y="3495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3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3962520" y="150984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962520" y="21812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3963240" y="350028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pproximate with a calc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3962520" y="281448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1146240" y="4211640"/>
            <a:ext cx="1977480" cy="1199520"/>
            <a:chOff x="1146240" y="4211640"/>
            <a:chExt cx="1977480" cy="1199520"/>
          </a:xfrm>
        </p:grpSpPr>
        <p:sp>
          <p:nvSpPr>
            <p:cNvPr id="111" name="Text Box 27"/>
            <p:cNvSpPr/>
            <p:nvPr/>
          </p:nvSpPr>
          <p:spPr>
            <a:xfrm>
              <a:off x="1146240" y="495144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bout 23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209960" y="42116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66640" y="1100160"/>
            <a:ext cx="78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ythagorean Theorem is only true for what type of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2840" y="110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88240" y="2133720"/>
            <a:ext cx="2046240" cy="1145520"/>
            <a:chOff x="588240" y="2133720"/>
            <a:chExt cx="2046240" cy="1145520"/>
          </a:xfrm>
        </p:grpSpPr>
        <p:sp>
          <p:nvSpPr>
            <p:cNvPr id="122" name="Text Box 9"/>
            <p:cNvSpPr/>
            <p:nvPr/>
          </p:nvSpPr>
          <p:spPr>
            <a:xfrm>
              <a:off x="588240" y="281952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ight tri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68940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29:48Z</dcterms:created>
  <dc:creator>amitp</dc:creator>
  <dc:description/>
  <dc:language>en-US</dc:language>
  <cp:lastModifiedBy>Owner</cp:lastModifiedBy>
  <dcterms:modified xsi:type="dcterms:W3CDTF">2010-09-04T23:30:27Z</dcterms:modified>
  <cp:revision>31</cp:revision>
  <dc:subject/>
  <dc:title>PowerPoint Presentation</dc:title>
</cp:coreProperties>
</file>