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2B8-41E0-4B95-85E4-EB921CA13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B739-F6B4-4DD6-A41B-2F5DE384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D90-6BDE-4528-8AE9-4D5F1F9F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F5A-F746-4F32-A511-895FAF38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B6A3-9F27-452F-9EC8-096F9C61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2B37-7CDE-45E1-A6CE-476986A7B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A82-1E52-499D-8CC2-C8EABE53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F594-D74C-40D7-9EEE-BE4A4B2E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04EC-38DB-496F-8611-CDC37AFC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1AB3-7E67-48CD-863F-2C2465F1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3C0-DB73-4994-995F-C5E53418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82B9-0A29-4B07-9527-F0522F9D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0BA3C-CF0C-4BF5-BC24-83BB391024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260440" y="293760"/>
            <a:ext cx="68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Find the length of a hypotenuse using two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71680" y="1771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85720" y="11016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length of the hypotenuse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5"/>
          <a:stretch/>
        </p:blipFill>
        <p:spPr>
          <a:xfrm>
            <a:off x="6019920" y="2057400"/>
            <a:ext cx="251460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547200" y="2460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1: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590400" y="3367080"/>
            <a:ext cx="6419880" cy="2288520"/>
            <a:chOff x="590400" y="3367080"/>
            <a:chExt cx="6419880" cy="2288520"/>
          </a:xfrm>
        </p:grpSpPr>
        <p:sp>
          <p:nvSpPr>
            <p:cNvPr id="52" name="Rectangle 14"/>
            <p:cNvSpPr/>
            <p:nvPr/>
          </p:nvSpPr>
          <p:spPr>
            <a:xfrm>
              <a:off x="590400" y="3367080"/>
              <a:ext cx="641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common Pythagorean triple is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Notice that if you multiply the lengths of the legs of the Pythagorean triple by 2, you get the lengths of the legs of this triangle: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ff4d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ff4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So, the length of the hypotenuse is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r>
                <a:rPr b="0" lang="en-US" sz="2400" spc="-1" strike="noStrike">
                  <a:solidFill>
                    <a:srgbClr val="00cd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15" descr="C:\Documents and Settings\admin\Desktop\dot.gif"/>
            <p:cNvPicPr/>
            <p:nvPr/>
          </p:nvPicPr>
          <p:blipFill>
            <a:blip r:embed="rId6"/>
            <a:stretch/>
          </p:blipFill>
          <p:spPr>
            <a:xfrm>
              <a:off x="866880" y="503568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6" descr="C:\Documents and Settings\admin\Desktop\dot.gif"/>
            <p:cNvPicPr/>
            <p:nvPr/>
          </p:nvPicPr>
          <p:blipFill>
            <a:blip r:embed="rId7"/>
            <a:stretch/>
          </p:blipFill>
          <p:spPr>
            <a:xfrm>
              <a:off x="2792520" y="50292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7" descr="C:\Documents and Settings\admin\Desktop\dot.gif"/>
            <p:cNvPicPr/>
            <p:nvPr/>
          </p:nvPicPr>
          <p:blipFill>
            <a:blip r:embed="rId8"/>
            <a:stretch/>
          </p:blipFill>
          <p:spPr>
            <a:xfrm>
              <a:off x="3124080" y="53910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260440" y="293760"/>
            <a:ext cx="68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Find the length of a hypotenuse using two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71680" y="1771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85720" y="11016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length of the hypotenuse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47200" y="2460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2: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686880" y="3162240"/>
            <a:ext cx="18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3280" y="4013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+ 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678600" y="486396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829440" y="57150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4467240" y="3218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448632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4502160" y="4923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4483800" y="577548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20840" y="1092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762120" y="1101600"/>
            <a:ext cx="81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unknown side length of the right triangle using the Pythagorean Theorem. Then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5"/>
          <a:stretch/>
        </p:blipFill>
        <p:spPr>
          <a:xfrm>
            <a:off x="5715000" y="1905120"/>
            <a:ext cx="2581200" cy="1828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686880" y="3162240"/>
            <a:ext cx="16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83280" y="40132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44 +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78600" y="486396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829440" y="57150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406680" y="3218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42576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3441600" y="4923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3423240" y="577548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57168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562320" y="1295280"/>
            <a:ext cx="6433920" cy="2822040"/>
            <a:chOff x="562320" y="1295280"/>
            <a:chExt cx="6433920" cy="2822040"/>
          </a:xfrm>
        </p:grpSpPr>
        <p:grpSp>
          <p:nvGrpSpPr>
            <p:cNvPr id="98" name="Group 14"/>
            <p:cNvGrpSpPr/>
            <p:nvPr/>
          </p:nvGrpSpPr>
          <p:grpSpPr>
            <a:xfrm>
              <a:off x="576360" y="1828800"/>
              <a:ext cx="6419880" cy="2288520"/>
              <a:chOff x="576360" y="1828800"/>
              <a:chExt cx="6419880" cy="2288520"/>
            </a:xfrm>
          </p:grpSpPr>
          <p:sp>
            <p:nvSpPr>
              <p:cNvPr id="99" name="Rectangle 10"/>
              <p:cNvSpPr/>
              <p:nvPr/>
            </p:nvSpPr>
            <p:spPr>
              <a:xfrm>
                <a:off x="576360" y="1828800"/>
                <a:ext cx="6419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 common Pythagorean triple is </a:t>
                </a:r>
                <a:r>
                  <a:rPr b="0" lang="en-US" sz="2400" spc="-1" strike="noStrike">
                    <a:solidFill>
                      <a:srgbClr val="00c864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Notice that if you multiply the lengths of the legs of the Pythagorean triple by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, you get the lengths of the legs of the triangle: </a:t>
                </a:r>
                <a:r>
                  <a:rPr b="0" lang="en-US" sz="2400" spc="-1" strike="noStrike">
                    <a:solidFill>
                      <a:srgbClr val="00c864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ff4d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ff4d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1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So, the length of the hypotenuse is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0</a:t>
                </a:r>
                <a:r>
                  <a:rPr b="0" lang="en-US" sz="2400" spc="-1" strike="noStrike">
                    <a:solidFill>
                      <a:srgbClr val="00cdff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0" name="Picture 11" descr="C:\Documents and Settings\admin\Desktop\dot.gif"/>
              <p:cNvPicPr/>
              <p:nvPr/>
            </p:nvPicPr>
            <p:blipFill>
              <a:blip r:embed="rId5"/>
              <a:stretch/>
            </p:blipFill>
            <p:spPr>
              <a:xfrm>
                <a:off x="2105280" y="351000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2" descr="C:\Documents and Settings\admin\Desktop\dot.gif"/>
              <p:cNvPicPr/>
              <p:nvPr/>
            </p:nvPicPr>
            <p:blipFill>
              <a:blip r:embed="rId6"/>
              <a:stretch/>
            </p:blipFill>
            <p:spPr>
              <a:xfrm>
                <a:off x="3940560" y="350496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13" descr="C:\Documents and Settings\admin\Desktop\dot.gif"/>
              <p:cNvPicPr/>
              <p:nvPr/>
            </p:nvPicPr>
            <p:blipFill>
              <a:blip r:embed="rId7"/>
              <a:stretch/>
            </p:blipFill>
            <p:spPr>
              <a:xfrm>
                <a:off x="5002560" y="383544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Rectangle 15"/>
            <p:cNvSpPr/>
            <p:nvPr/>
          </p:nvSpPr>
          <p:spPr>
            <a:xfrm>
              <a:off x="562320" y="129528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thagorean tri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07880" y="1066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85800" y="106668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unknown side length of the right triangle using the Pythagorean Theorem. Then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5"/>
          <a:stretch/>
        </p:blipFill>
        <p:spPr>
          <a:xfrm>
            <a:off x="5334120" y="1947960"/>
            <a:ext cx="3276360" cy="1942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686880" y="3462480"/>
            <a:ext cx="18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683280" y="4013280"/>
            <a:ext cx="21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304 + 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678960" y="4606920"/>
            <a:ext cx="13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786600" y="51339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3421080" y="3517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42576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3441600" y="4665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413880" y="51944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571680" y="25909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25"/>
          <p:cNvGrpSpPr/>
          <p:nvPr/>
        </p:nvGrpSpPr>
        <p:grpSpPr>
          <a:xfrm>
            <a:off x="562320" y="1298520"/>
            <a:ext cx="6433920" cy="2822040"/>
            <a:chOff x="562320" y="1298520"/>
            <a:chExt cx="6433920" cy="2822040"/>
          </a:xfrm>
        </p:grpSpPr>
        <p:sp>
          <p:nvSpPr>
            <p:cNvPr id="129" name="Rectangle 20"/>
            <p:cNvSpPr/>
            <p:nvPr/>
          </p:nvSpPr>
          <p:spPr>
            <a:xfrm>
              <a:off x="576360" y="1832040"/>
              <a:ext cx="641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common Pythagorean triple is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Notice that if you multiply the lengths of the legs of the Pythagorean triple b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you get the lengths of the legs of the triangle: </a:t>
              </a:r>
              <a:br>
                <a:rPr sz="2400"/>
              </a:b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7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1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4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So, the length of the hypotenuse is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5</a:t>
              </a:r>
              <a:r>
                <a:rPr b="0" lang="en-US" sz="2400" spc="-1" strike="noStrike">
                  <a:solidFill>
                    <a:srgbClr val="00cd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Picture 21" descr="C:\Documents and Settings\admin\Desktop\dot.gif"/>
            <p:cNvPicPr/>
            <p:nvPr/>
          </p:nvPicPr>
          <p:blipFill>
            <a:blip r:embed="rId5"/>
            <a:stretch/>
          </p:blipFill>
          <p:spPr>
            <a:xfrm>
              <a:off x="838080" y="34844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2" descr="C:\Documents and Settings\admin\Desktop\dot.gif"/>
            <p:cNvPicPr/>
            <p:nvPr/>
          </p:nvPicPr>
          <p:blipFill>
            <a:blip r:embed="rId6"/>
            <a:stretch/>
          </p:blipFill>
          <p:spPr>
            <a:xfrm>
              <a:off x="2776680" y="349416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3" descr="C:\Documents and Settings\admin\Desktop\dot.gif"/>
            <p:cNvPicPr/>
            <p:nvPr/>
          </p:nvPicPr>
          <p:blipFill>
            <a:blip r:embed="rId7"/>
            <a:stretch/>
          </p:blipFill>
          <p:spPr>
            <a:xfrm>
              <a:off x="3110040" y="385776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4"/>
            <p:cNvSpPr/>
            <p:nvPr/>
          </p:nvSpPr>
          <p:spPr>
            <a:xfrm>
              <a:off x="562320" y="129852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thagorean tri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6:32:48Z</dcterms:created>
  <dc:creator>amitp</dc:creator>
  <dc:description/>
  <dc:language>en-US</dc:language>
  <cp:lastModifiedBy>Owner</cp:lastModifiedBy>
  <dcterms:modified xsi:type="dcterms:W3CDTF">2010-09-04T23:31:05Z</dcterms:modified>
  <cp:revision>26</cp:revision>
  <dc:subject/>
  <dc:title>PowerPoint Presentation</dc:title>
</cp:coreProperties>
</file>