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F10-E214-446C-9DB3-6F2E13DC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210-54C5-431A-85A3-C659B468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1B6-190E-4A3C-BCAA-B3B69413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C46-C411-4D7D-9927-923323B4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A28-41DF-4AF2-A410-F83A364E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47D-1142-4FC5-A224-9A2BA86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027-45C8-43A4-BA23-27856B37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9F3-806A-4147-9C44-A95EE1AA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58C-BDE4-4B94-8E78-54B8A553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F2C-2DA2-483B-AE16-CA70C7C7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72B-8CAC-4C45-AA45-BED6BDFA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2F2-65C7-4FC6-8839-A96B0DE2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0D3-598D-4D0C-8228-ADA03E2B7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6019920" y="2057400"/>
            <a:ext cx="251460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1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590400" y="3367080"/>
            <a:ext cx="6419880" cy="2288520"/>
            <a:chOff x="590400" y="3367080"/>
            <a:chExt cx="6419880" cy="2288520"/>
          </a:xfrm>
        </p:grpSpPr>
        <p:sp>
          <p:nvSpPr>
            <p:cNvPr id="52" name="Rectangle 14"/>
            <p:cNvSpPr/>
            <p:nvPr/>
          </p:nvSpPr>
          <p:spPr>
            <a:xfrm>
              <a:off x="590400" y="336708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2, you get the lengths of the legs of this triangle: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ff4d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15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866880" y="503568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2792520" y="50292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7" descr="C:\Documents and Settings\admin\Desktop\dot.gif"/>
            <p:cNvPicPr/>
            <p:nvPr/>
          </p:nvPicPr>
          <p:blipFill>
            <a:blip r:embed="rId8"/>
            <a:stretch/>
          </p:blipFill>
          <p:spPr>
            <a:xfrm>
              <a:off x="3124080" y="53910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2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686880" y="316224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3280" y="4013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+ 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446724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8632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450216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448380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20840" y="109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762120" y="1101600"/>
            <a:ext cx="81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5715000" y="1905120"/>
            <a:ext cx="258120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686880" y="3162240"/>
            <a:ext cx="16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83280" y="4013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44 +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40668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344160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42324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7168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562320" y="1295280"/>
            <a:ext cx="6433920" cy="2822040"/>
            <a:chOff x="562320" y="1295280"/>
            <a:chExt cx="6433920" cy="2822040"/>
          </a:xfrm>
        </p:grpSpPr>
        <p:grpSp>
          <p:nvGrpSpPr>
            <p:cNvPr id="98" name="Group 14"/>
            <p:cNvGrpSpPr/>
            <p:nvPr/>
          </p:nvGrpSpPr>
          <p:grpSpPr>
            <a:xfrm>
              <a:off x="576360" y="1828800"/>
              <a:ext cx="6419880" cy="2288520"/>
              <a:chOff x="576360" y="1828800"/>
              <a:chExt cx="6419880" cy="228852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576360" y="1828800"/>
                <a:ext cx="6419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common Pythagorean triple is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Notice that if you multiply the lengths of the legs of the Pythagorean triple by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you get the lengths of the legs of the triangle: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ff4d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ff4d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So, the length of the hypotenuse is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0" lang="en-US" sz="2400" spc="-1" strike="noStrike">
                    <a:solidFill>
                      <a:srgbClr val="00cdff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" name="Picture 11" descr="C:\Documents and Settings\admin\Desktop\dot.gif"/>
              <p:cNvPicPr/>
              <p:nvPr/>
            </p:nvPicPr>
            <p:blipFill>
              <a:blip r:embed="rId5"/>
              <a:stretch/>
            </p:blipFill>
            <p:spPr>
              <a:xfrm>
                <a:off x="2105280" y="351000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2" descr="C:\Documents and Settings\admin\Desktop\dot.gif"/>
              <p:cNvPicPr/>
              <p:nvPr/>
            </p:nvPicPr>
            <p:blipFill>
              <a:blip r:embed="rId6"/>
              <a:stretch/>
            </p:blipFill>
            <p:spPr>
              <a:xfrm>
                <a:off x="3940560" y="350496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13" descr="C:\Documents and Settings\admin\Desktop\dot.gif"/>
              <p:cNvPicPr/>
              <p:nvPr/>
            </p:nvPicPr>
            <p:blipFill>
              <a:blip r:embed="rId7"/>
              <a:stretch/>
            </p:blipFill>
            <p:spPr>
              <a:xfrm>
                <a:off x="5002560" y="383544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Rectangle 15"/>
            <p:cNvSpPr/>
            <p:nvPr/>
          </p:nvSpPr>
          <p:spPr>
            <a:xfrm>
              <a:off x="562320" y="129528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07880" y="106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85800" y="106668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5334120" y="1947960"/>
            <a:ext cx="327636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686880" y="346248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83280" y="4013280"/>
            <a:ext cx="21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304 + 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78960" y="4606920"/>
            <a:ext cx="13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786600" y="51339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421080" y="3517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441600" y="4665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413880" y="51944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71680" y="25909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25"/>
          <p:cNvGrpSpPr/>
          <p:nvPr/>
        </p:nvGrpSpPr>
        <p:grpSpPr>
          <a:xfrm>
            <a:off x="562320" y="1298520"/>
            <a:ext cx="6433920" cy="2822040"/>
            <a:chOff x="562320" y="1298520"/>
            <a:chExt cx="6433920" cy="2822040"/>
          </a:xfrm>
        </p:grpSpPr>
        <p:sp>
          <p:nvSpPr>
            <p:cNvPr id="129" name="Rectangle 20"/>
            <p:cNvSpPr/>
            <p:nvPr/>
          </p:nvSpPr>
          <p:spPr>
            <a:xfrm>
              <a:off x="576360" y="183204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you get the lengths of the legs of the triangle: </a:t>
              </a:r>
              <a:br>
                <a:rPr sz="2400"/>
              </a:b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4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21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838080" y="3484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2776680" y="34941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3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3110040" y="38577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4"/>
            <p:cNvSpPr/>
            <p:nvPr/>
          </p:nvSpPr>
          <p:spPr>
            <a:xfrm>
              <a:off x="562320" y="129852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6:32:48Z</dcterms:created>
  <dc:creator>amitp</dc:creator>
  <dc:description/>
  <dc:language>en-US</dc:language>
  <cp:lastModifiedBy>Owner</cp:lastModifiedBy>
  <dcterms:modified xsi:type="dcterms:W3CDTF">2010-09-04T23:31:05Z</dcterms:modified>
  <cp:revision>26</cp:revision>
  <dc:subject/>
  <dc:title>PowerPoint Presentation</dc:title>
</cp:coreProperties>
</file>