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3.jpeg" ContentType="image/jpeg"/>
  <Override PartName="/ppt/media/image27.wmf" ContentType="image/x-wmf"/>
  <Override PartName="/ppt/media/image22.png" ContentType="image/png"/>
  <Override PartName="/ppt/media/image24.jpeg" ContentType="image/jpeg"/>
  <Override PartName="/ppt/media/image21.jpeg" ContentType="image/jpeg"/>
  <Override PartName="/ppt/media/image32.wmf" ContentType="image/x-wmf"/>
  <Override PartName="/ppt/media/image20.jpeg" ContentType="image/jpeg"/>
  <Override PartName="/ppt/media/image29.wmf" ContentType="image/x-wmf"/>
  <Override PartName="/ppt/media/image19.jpeg" ContentType="image/jpeg"/>
  <Override PartName="/ppt/media/image25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35.wmf" ContentType="image/x-wmf"/>
  <Override PartName="/ppt/media/image23.wmf" ContentType="image/x-wmf"/>
  <Override PartName="/ppt/media/image9.jpeg" ContentType="image/jpeg"/>
  <Override PartName="/ppt/media/image11.jpeg" ContentType="image/jpeg"/>
  <Override PartName="/ppt/media/image30.jpeg" ContentType="image/jpeg"/>
  <Override PartName="/ppt/media/image33.wmf" ContentType="image/x-wmf"/>
  <Override PartName="/ppt/media/image12.jpeg" ContentType="image/jpeg"/>
  <Override PartName="/ppt/media/image34.wmf" ContentType="image/x-wmf"/>
  <Override PartName="/ppt/media/image36.wmf" ContentType="image/x-wmf"/>
  <Override PartName="/ppt/media/image37.png" ContentType="image/png"/>
  <Override PartName="/ppt/media/image41.png" ContentType="image/png"/>
  <Override PartName="/ppt/media/image42.png" ContentType="image/png"/>
  <Override PartName="/ppt/media/image2.jpeg" ContentType="image/jpeg"/>
  <Override PartName="/ppt/media/image43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4.png" ContentType="image/png"/>
  <Override PartName="/ppt/media/image10.jpeg" ContentType="image/jpeg"/>
  <Override PartName="/ppt/media/image38.jpeg" ContentType="image/jpeg"/>
  <Override PartName="/ppt/media/image31.wmf" ContentType="image/x-wmf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1.jpeg" ContentType="image/jpeg"/>
  <Override PartName="/ppt/media/image15.jpeg" ContentType="image/jpeg"/>
  <Override PartName="/ppt/media/image26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OCR A Extended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C8B8-DBCA-46D5-BE36-A2A65B95F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43FD-CD4C-436B-A0F9-CF40537EA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092B-C3E4-4C7A-B5E5-E0C4870F1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DD47-889B-4085-8DC7-E7BDD32E9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EECD-F494-4885-BCD1-1AF2F142E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E42E-21C6-4DE2-BA93-2074E1773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88FB-DFD2-42DE-B71D-E25CC73EA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4633-A712-4DF0-B817-D776661E0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22E6-B962-4886-A54F-F544D7E2D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36D7-A215-4D0E-9113-EA2DD724D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413B-3A50-46A5-A2D8-2F29AEDA6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C515-7067-4E10-9893-50C5EF487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B2684-F52D-47A2-9210-324D1D04C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3089-C842-4CE0-AE8A-B9980D0F5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7AE7-4343-4612-89B3-BB6C86722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CB97-2A1D-44EE-ABD2-51412A197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5DD2-2A4E-4438-B490-B30E9A953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A56E-9C1F-4FC1-908B-7A379291F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AF66-93EC-4A10-8176-CB15EFE89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A691-2AF9-433A-BE73-DC0FAEABF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2A47-4FCB-4815-87CA-B2E9F1D9B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4636-5429-41ED-9E6D-42BD30E5B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C21C-3921-4D2F-8F8E-A6C1AFC81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8458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28280" y="4058640"/>
            <a:ext cx="8458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232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28280" y="40586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62320" y="40586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8120" y="15998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48320" y="15998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28280" y="40586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8120" y="40586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48320" y="40586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BC2C-2CFE-4677-97F8-C2EFFB51B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28280" y="1599840"/>
            <a:ext cx="845820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43F3-13AB-4E51-B1C0-945A487D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84582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59F3-1E04-4A90-8DBD-DEDCD2F5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41274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2320" y="1599840"/>
            <a:ext cx="41274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6A0E-2E7D-4DC6-9C93-420954084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219F-A2D1-4DD0-B3FC-9BF4C3C4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5257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636D-B4E1-4439-BEA7-5E2F9594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2320" y="1599840"/>
            <a:ext cx="41274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28280" y="40586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274D-56F5-4E92-AD9C-3A456754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28280" y="1599840"/>
            <a:ext cx="845820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41274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232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2320" y="40586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968A-9C3B-4FD4-9481-407E83D0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232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28280" y="4058640"/>
            <a:ext cx="8458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6858-A3F5-4652-BFA2-980A2495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8458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28280" y="4058640"/>
            <a:ext cx="8458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F34A-9DD0-48CF-9D22-2C6844C1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232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28280" y="40586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2320" y="40586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A158-8F90-4ADC-914F-CCF202432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88120" y="15998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448320" y="15998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28280" y="40586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88120" y="40586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448320" y="40586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168C-F413-4772-B726-754918692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D5B3-BEA8-477A-A684-B40E809A7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28280" y="1599840"/>
            <a:ext cx="845820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BC383-2392-4F37-A0D3-B4E700B1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84582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0AF2C-76EB-4B32-9159-22C6644A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41274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62320" y="1599840"/>
            <a:ext cx="41274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31BB-62BC-4C72-B708-B11B22E1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1F790-2F4E-4295-AEC1-3920FF16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84582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5257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90875-2451-4F64-A355-045592B2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62320" y="1599840"/>
            <a:ext cx="41274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28280" y="40586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1490E-DAED-425C-A01C-17D37F6D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41274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232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62320" y="40586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82D7-CAC5-4B52-A062-AD3CDA9A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232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28280" y="4058640"/>
            <a:ext cx="8458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E3BA-A89E-4E28-8268-FFB959DE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8458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28280" y="4058640"/>
            <a:ext cx="8458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6C999-AC1C-4CA7-B149-676D0C2E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6232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28280" y="40586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062320" y="40586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D499-0D62-4784-8AC5-56293B1E7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88120" y="15998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448320" y="15998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728280" y="40586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88120" y="40586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448320" y="40586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6E4B3-C90B-46EB-8831-EA77BFA34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41274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62320" y="1599840"/>
            <a:ext cx="41274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5257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2320" y="1599840"/>
            <a:ext cx="41274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28280" y="40586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41274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232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62320" y="40586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232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28280" y="4058640"/>
            <a:ext cx="8458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OCR A Extended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8280" y="1599840"/>
            <a:ext cx="84582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OCR A Extended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OCR A Extended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OCR A Extended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OCR A Extende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OCR A Extende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OCR A Extende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OCR A Extende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51920" y="1523520"/>
            <a:ext cx="6705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-360" y="663264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629400"/>
            <a:ext cx="289584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7009920" y="662940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5A8A-4335-49E9-9941-1B205BC73AC8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151920" y="1523520"/>
            <a:ext cx="6705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-360" y="662940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629400"/>
            <a:ext cx="289584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7009920" y="662940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C8C2-5B40-4B94-AAAC-5ECC046C21AA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agutie.homestead.com/files/index.html" TargetMode="External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887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2d050"/>
                </a:solidFill>
                <a:latin typeface="OCR A Extended"/>
              </a:rPr>
              <a:t>DO First</a:t>
            </a:r>
            <a:endParaRPr b="0" lang="en-US" sz="44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82760" y="1599840"/>
            <a:ext cx="870408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OCR A Extended"/>
              </a:rPr>
              <a:t>In your posted notes,  write down the characteristics of a classroom where you have learned a lot.</a:t>
            </a:r>
            <a:endParaRPr b="0" lang="en-US" sz="48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03520" y="605808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OCR A Extended"/>
              </a:rPr>
              <a:t>About me</a:t>
            </a:r>
            <a:endParaRPr b="0" lang="en-US" sz="54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OCR A Extended"/>
            </a:endParaRPr>
          </a:p>
        </p:txBody>
      </p:sp>
      <p:pic>
        <p:nvPicPr>
          <p:cNvPr id="141" name="Picture 6" descr="http://upload.wikimedia.org/wikipedia/commons/7/78/The_Blue_Marble.jpg"/>
          <p:cNvPicPr/>
          <p:nvPr/>
        </p:nvPicPr>
        <p:blipFill>
          <a:blip r:embed="rId1"/>
          <a:srcRect l="0" t="13854" r="0" b="13854"/>
          <a:stretch/>
        </p:blipFill>
        <p:spPr>
          <a:xfrm>
            <a:off x="1397160" y="507960"/>
            <a:ext cx="594360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OCR A Extended"/>
              </a:rPr>
              <a:t>I am from Nepal</a:t>
            </a:r>
            <a:endParaRPr b="0" lang="en-US" sz="44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OCR A Extended"/>
            </a:endParaRPr>
          </a:p>
        </p:txBody>
      </p:sp>
      <p:pic>
        <p:nvPicPr>
          <p:cNvPr id="144" name="Picture 2" descr="http://www.bugbog.com/images/maps/nepal-map.jpg"/>
          <p:cNvPicPr/>
          <p:nvPr/>
        </p:nvPicPr>
        <p:blipFill>
          <a:blip r:embed="rId1"/>
          <a:srcRect l="0" t="253" r="0" b="253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OCR A Extended"/>
            </a:endParaRPr>
          </a:p>
        </p:txBody>
      </p:sp>
      <p:pic>
        <p:nvPicPr>
          <p:cNvPr id="148" name="Picture 2" descr="http://t3.gstatic.com/images?q=tbn:ANd9GcTWBBbb3ZmZBbOKVBqmCpeViTIYjHt27hybKCYpLy8FHYnfUnw&amp;t=1&amp;usg=__trh4VxhUSBjDv5r3_Ku6awdlEic="/>
          <p:cNvPicPr/>
          <p:nvPr/>
        </p:nvPicPr>
        <p:blipFill>
          <a:blip r:embed="rId2"/>
          <a:stretch/>
        </p:blipFill>
        <p:spPr>
          <a:xfrm>
            <a:off x="0" y="0"/>
            <a:ext cx="4111560" cy="26668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http://t2.gstatic.com/images?q=tbn:ANd9GcTfmYu9XdDzZrkpuD_jzCc-K599Uj9lVm_R7yg_OIG56L6M-Rk&amp;t=1&amp;usg=__k2nFrcf48k9dHxA3UL6QdNfOh4k="/>
          <p:cNvPicPr/>
          <p:nvPr/>
        </p:nvPicPr>
        <p:blipFill>
          <a:blip r:embed="rId3"/>
          <a:stretch/>
        </p:blipFill>
        <p:spPr>
          <a:xfrm>
            <a:off x="4118040" y="0"/>
            <a:ext cx="3720960" cy="2692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http://t2.gstatic.com/images?q=tbn:ANd9GcQGXPAac5L76OFzk_vSUesZa61ssgGsWlKDrNqIKsUUKrv2GE8&amp;t=1&amp;usg=__KZgn9L0XPGtCqu5uL5ETh_u3-so="/>
          <p:cNvPicPr/>
          <p:nvPr/>
        </p:nvPicPr>
        <p:blipFill>
          <a:blip r:embed="rId4"/>
          <a:stretch/>
        </p:blipFill>
        <p:spPr>
          <a:xfrm>
            <a:off x="0" y="2671920"/>
            <a:ext cx="4140360" cy="3100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http://t0.gstatic.com/images?q=tbn:ANd9GcSlcjMk45LS35IYFrn5_5k7VLGb_7T64tQUHSH6lGwwinjr0oc&amp;t=1&amp;usg=__2s_-yFQeRgBkphi_1YxkX5mZBrY="/>
          <p:cNvPicPr/>
          <p:nvPr/>
        </p:nvPicPr>
        <p:blipFill>
          <a:blip r:embed="rId5"/>
          <a:stretch/>
        </p:blipFill>
        <p:spPr>
          <a:xfrm>
            <a:off x="4130640" y="2682720"/>
            <a:ext cx="3349800" cy="40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66832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Geometric Structure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0" y="33523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Verdana"/>
              </a:rPr>
              <a:t>Basic In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304920" y="228600"/>
          <a:ext cx="8534160" cy="304920"/>
        </p:xfrm>
        <a:graphic>
          <a:graphicData uri="http://schemas.openxmlformats.org/drawingml/2006/table">
            <a:tbl>
              <a:tblPr/>
              <a:tblGrid>
                <a:gridCol w="2220840"/>
                <a:gridCol w="2046240"/>
                <a:gridCol w="2133720"/>
                <a:gridCol w="2133360"/>
              </a:tblGrid>
              <a:tr h="30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Text Box 26"/>
          <p:cNvSpPr/>
          <p:nvPr/>
        </p:nvSpPr>
        <p:spPr>
          <a:xfrm>
            <a:off x="609480" y="1600200"/>
            <a:ext cx="3810240" cy="41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eometry is a way of thinking about and seeing the worl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eometry is evident in nature, art and cultu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28"/>
          <p:cNvSpPr/>
          <p:nvPr/>
        </p:nvSpPr>
        <p:spPr>
          <a:xfrm>
            <a:off x="457200" y="152388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29"/>
          <p:cNvSpPr/>
          <p:nvPr/>
        </p:nvSpPr>
        <p:spPr>
          <a:xfrm>
            <a:off x="5105520" y="4648320"/>
            <a:ext cx="3657600" cy="1676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30"/>
          <p:cNvSpPr/>
          <p:nvPr/>
        </p:nvSpPr>
        <p:spPr>
          <a:xfrm>
            <a:off x="5334120" y="4800600"/>
            <a:ext cx="320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geometric objects do you see in this pic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42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Group 48"/>
          <p:cNvGrpSpPr/>
          <p:nvPr/>
        </p:nvGrpSpPr>
        <p:grpSpPr>
          <a:xfrm>
            <a:off x="5257800" y="1981080"/>
            <a:ext cx="3048120" cy="2170080"/>
            <a:chOff x="5257800" y="1981080"/>
            <a:chExt cx="3048120" cy="2170080"/>
          </a:xfrm>
        </p:grpSpPr>
        <p:pic>
          <p:nvPicPr>
            <p:cNvPr id="161" name="Picture 44" descr="spiral sculpture"/>
            <p:cNvPicPr/>
            <p:nvPr/>
          </p:nvPicPr>
          <p:blipFill>
            <a:blip r:embed="rId1"/>
            <a:stretch/>
          </p:blipFill>
          <p:spPr>
            <a:xfrm>
              <a:off x="5257800" y="1981080"/>
              <a:ext cx="1447920" cy="21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45" descr="sunflower"/>
            <p:cNvPicPr/>
            <p:nvPr/>
          </p:nvPicPr>
          <p:blipFill>
            <a:blip r:embed="rId2"/>
            <a:stretch/>
          </p:blipFill>
          <p:spPr>
            <a:xfrm>
              <a:off x="6858000" y="2057400"/>
              <a:ext cx="7588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46" descr="mm-art-circles_of_life-site"/>
            <p:cNvPicPr/>
            <p:nvPr/>
          </p:nvPicPr>
          <p:blipFill>
            <a:blip r:embed="rId3"/>
            <a:srcRect l="2944" t="4569" r="8826" b="3532"/>
            <a:stretch/>
          </p:blipFill>
          <p:spPr>
            <a:xfrm>
              <a:off x="6858000" y="2895480"/>
              <a:ext cx="1447920" cy="1255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304920" y="228600"/>
          <a:ext cx="8534160" cy="304920"/>
        </p:xfrm>
        <a:graphic>
          <a:graphicData uri="http://schemas.openxmlformats.org/drawingml/2006/table">
            <a:tbl>
              <a:tblPr/>
              <a:tblGrid>
                <a:gridCol w="2220840"/>
                <a:gridCol w="2046240"/>
                <a:gridCol w="2133720"/>
                <a:gridCol w="2133360"/>
              </a:tblGrid>
              <a:tr h="30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Text Box 14"/>
          <p:cNvSpPr/>
          <p:nvPr/>
        </p:nvSpPr>
        <p:spPr>
          <a:xfrm>
            <a:off x="609480" y="1600200"/>
            <a:ext cx="3810240" cy="52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eometry is both ancient and modern. Geometry originated as a systematic study in the works of Euclid, through its synthesis with the work of Rene Descartes, to its present connections with computer and calculator technology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457200" y="152388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6"/>
          <p:cNvSpPr/>
          <p:nvPr/>
        </p:nvSpPr>
        <p:spPr>
          <a:xfrm>
            <a:off x="5105520" y="4648320"/>
            <a:ext cx="3657600" cy="1676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5410080" y="4800600"/>
            <a:ext cx="320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geometric objects do you see in this pic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Group 29"/>
          <p:cNvGrpSpPr/>
          <p:nvPr/>
        </p:nvGrpSpPr>
        <p:grpSpPr>
          <a:xfrm>
            <a:off x="5410080" y="1676520"/>
            <a:ext cx="2871720" cy="2666880"/>
            <a:chOff x="5410080" y="1676520"/>
            <a:chExt cx="2871720" cy="2666880"/>
          </a:xfrm>
        </p:grpSpPr>
        <p:pic>
          <p:nvPicPr>
            <p:cNvPr id="171" name="Picture 22" descr="black&amp;whitefractal"/>
            <p:cNvPicPr/>
            <p:nvPr/>
          </p:nvPicPr>
          <p:blipFill>
            <a:blip r:embed="rId1"/>
            <a:stretch/>
          </p:blipFill>
          <p:spPr>
            <a:xfrm rot="5400000">
              <a:off x="6467400" y="1685880"/>
              <a:ext cx="1066680" cy="104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23" descr="1294,1144215634,1"/>
            <p:cNvPicPr/>
            <p:nvPr/>
          </p:nvPicPr>
          <p:blipFill>
            <a:blip r:embed="rId2"/>
            <a:srcRect l="9265" t="50321" r="3701" b="6924"/>
            <a:stretch/>
          </p:blipFill>
          <p:spPr>
            <a:xfrm rot="5400000">
              <a:off x="7036200" y="2259720"/>
              <a:ext cx="1828800" cy="6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24" descr="map2"/>
            <p:cNvPicPr/>
            <p:nvPr/>
          </p:nvPicPr>
          <p:blipFill>
            <a:blip r:embed="rId3"/>
            <a:stretch/>
          </p:blipFill>
          <p:spPr>
            <a:xfrm>
              <a:off x="5410080" y="2819520"/>
              <a:ext cx="2171880" cy="14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27" descr="Euclid"/>
            <p:cNvPicPr/>
            <p:nvPr/>
          </p:nvPicPr>
          <p:blipFill>
            <a:blip r:embed="rId4"/>
            <a:stretch/>
          </p:blipFill>
          <p:spPr>
            <a:xfrm>
              <a:off x="5715000" y="1676520"/>
              <a:ext cx="67464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28" descr="DESCARTES_G_290w_q30"/>
            <p:cNvPicPr/>
            <p:nvPr/>
          </p:nvPicPr>
          <p:blipFill>
            <a:blip r:embed="rId5"/>
            <a:stretch/>
          </p:blipFill>
          <p:spPr>
            <a:xfrm flipH="1">
              <a:off x="7619760" y="3505320"/>
              <a:ext cx="662040" cy="838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304920" y="228600"/>
          <a:ext cx="8534160" cy="304920"/>
        </p:xfrm>
        <a:graphic>
          <a:graphicData uri="http://schemas.openxmlformats.org/drawingml/2006/table">
            <a:tbl>
              <a:tblPr/>
              <a:tblGrid>
                <a:gridCol w="2220840"/>
                <a:gridCol w="2046240"/>
                <a:gridCol w="2133720"/>
                <a:gridCol w="2133360"/>
              </a:tblGrid>
              <a:tr h="30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Text Box 14"/>
          <p:cNvSpPr/>
          <p:nvPr/>
        </p:nvSpPr>
        <p:spPr>
          <a:xfrm>
            <a:off x="533520" y="1600200"/>
            <a:ext cx="4038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basic terms and postulates of geometry will be introduced as well as the tools needed to explore geomet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5"/>
          <p:cNvSpPr/>
          <p:nvPr/>
        </p:nvSpPr>
        <p:spPr>
          <a:xfrm>
            <a:off x="457200" y="152388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5105520" y="4648320"/>
            <a:ext cx="3657600" cy="1676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5410080" y="4800600"/>
            <a:ext cx="320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geometric objects do you see in this pic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22" descr="geo terms"/>
          <p:cNvPicPr/>
          <p:nvPr/>
        </p:nvPicPr>
        <p:blipFill>
          <a:blip r:embed="rId1"/>
          <a:stretch/>
        </p:blipFill>
        <p:spPr>
          <a:xfrm>
            <a:off x="5334120" y="2133720"/>
            <a:ext cx="3124080" cy="1711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83" name="Rectangle 23"/>
          <p:cNvSpPr/>
          <p:nvPr/>
        </p:nvSpPr>
        <p:spPr>
          <a:xfrm>
            <a:off x="6028200" y="3886200"/>
            <a:ext cx="23706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http://agutie.homestead.com/files/index.htm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380880" y="2514600"/>
          <a:ext cx="8458200" cy="609480"/>
        </p:xfrm>
        <a:graphic>
          <a:graphicData uri="http://schemas.openxmlformats.org/drawingml/2006/table">
            <a:tbl>
              <a:tblPr/>
              <a:tblGrid>
                <a:gridCol w="2511720"/>
                <a:gridCol w="2246040"/>
                <a:gridCol w="1982880"/>
                <a:gridCol w="1717560"/>
              </a:tblGrid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trod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amp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act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85" name="Text Box 59"/>
          <p:cNvSpPr/>
          <p:nvPr/>
        </p:nvSpPr>
        <p:spPr>
          <a:xfrm>
            <a:off x="2514600" y="3962520"/>
            <a:ext cx="4495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lease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go back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r choose a topic from ab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st of Instructional Pag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209680" y="1295280"/>
          <a:ext cx="3962520" cy="4891320"/>
        </p:xfrm>
        <a:graphic>
          <a:graphicData uri="http://schemas.openxmlformats.org/drawingml/2006/table">
            <a:tbl>
              <a:tblPr/>
              <a:tblGrid>
                <a:gridCol w="2133720"/>
                <a:gridCol w="18288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Text Box 24"/>
          <p:cNvSpPr/>
          <p:nvPr/>
        </p:nvSpPr>
        <p:spPr>
          <a:xfrm>
            <a:off x="533520" y="1673640"/>
            <a:ext cx="3962160" cy="41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ree building blocks of geometry are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Verdana"/>
              </a:rPr>
              <a:t>poin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400" spc="-1" strike="noStrike" u="sng">
                <a:solidFill>
                  <a:srgbClr val="bbe0e3"/>
                </a:solidFill>
                <a:uFillTx/>
                <a:latin typeface="Verdana"/>
              </a:rPr>
              <a:t>lines</a:t>
            </a:r>
            <a:r>
              <a:rPr b="0" lang="en-US" sz="2400" spc="-1" strike="noStrike">
                <a:solidFill>
                  <a:srgbClr val="99cc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Verdana"/>
              </a:rPr>
              <a:t>plan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They are considered building blocks because they are basic and not defined in terms of other figu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en though the terms cannot be defined, they may be described and depicted with a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2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2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30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32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3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34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5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36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7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Group 43"/>
          <p:cNvGrpSpPr/>
          <p:nvPr/>
        </p:nvGrpSpPr>
        <p:grpSpPr>
          <a:xfrm>
            <a:off x="5638320" y="1828800"/>
            <a:ext cx="2819880" cy="2438280"/>
            <a:chOff x="5638320" y="1828800"/>
            <a:chExt cx="2819880" cy="2438280"/>
          </a:xfrm>
        </p:grpSpPr>
        <p:pic>
          <p:nvPicPr>
            <p:cNvPr id="201" name="Picture 40" descr="pick up sticks"/>
            <p:cNvPicPr/>
            <p:nvPr/>
          </p:nvPicPr>
          <p:blipFill>
            <a:blip r:embed="rId3"/>
            <a:stretch/>
          </p:blipFill>
          <p:spPr>
            <a:xfrm rot="5400000">
              <a:off x="5935680" y="1608120"/>
              <a:ext cx="131112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41" descr="plane"/>
            <p:cNvPicPr/>
            <p:nvPr/>
          </p:nvPicPr>
          <p:blipFill>
            <a:blip r:embed="rId4"/>
            <a:stretch/>
          </p:blipFill>
          <p:spPr>
            <a:xfrm>
              <a:off x="6781680" y="2819520"/>
              <a:ext cx="1676520" cy="11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42" descr="new41w"/>
            <p:cNvPicPr/>
            <p:nvPr/>
          </p:nvPicPr>
          <p:blipFill>
            <a:blip r:embed="rId5"/>
            <a:stretch/>
          </p:blipFill>
          <p:spPr>
            <a:xfrm rot="5400000">
              <a:off x="5638320" y="3047760"/>
              <a:ext cx="1218960" cy="121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" name="Rectangle 44"/>
          <p:cNvSpPr/>
          <p:nvPr/>
        </p:nvSpPr>
        <p:spPr>
          <a:xfrm>
            <a:off x="5181480" y="1066680"/>
            <a:ext cx="3962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Many-Sided World of Geometry, The, Program 1: Geometry Basics. Standard Deviants (2002). Retrieved July 12, 2006, from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unitedstreaming: http://www.unitedstreaming.com/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24080" y="22824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91960" y="1968120"/>
            <a:ext cx="77853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7030a0"/>
                </a:solidFill>
                <a:latin typeface="OCR A Extended"/>
              </a:rPr>
              <a:t>Expecatation</a:t>
            </a:r>
            <a:r>
              <a:rPr b="0" lang="en-US" sz="6000" spc="-1" strike="noStrike">
                <a:solidFill>
                  <a:srgbClr val="ffffff"/>
                </a:solidFill>
                <a:latin typeface="OCR A Extended"/>
              </a:rPr>
              <a:t> of MR. Kansakar</a:t>
            </a:r>
            <a:endParaRPr b="0" lang="en-US" sz="6000" spc="-1" strike="noStrike">
              <a:solidFill>
                <a:srgbClr val="ffffff"/>
              </a:solidFill>
              <a:latin typeface="OCR A Extended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Text Box 14"/>
          <p:cNvSpPr/>
          <p:nvPr/>
        </p:nvSpPr>
        <p:spPr>
          <a:xfrm>
            <a:off x="533520" y="1652040"/>
            <a:ext cx="3809880" cy="45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800" spc="-1" strike="noStrike">
                <a:solidFill>
                  <a:srgbClr val="99cc00"/>
                </a:solidFill>
                <a:latin typeface="Verdana"/>
              </a:rPr>
              <a:t>point</a:t>
            </a:r>
            <a:r>
              <a:rPr b="0" lang="en-US" sz="2400" spc="-1" strike="noStrike">
                <a:solidFill>
                  <a:srgbClr val="99cc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the most basic building block of geome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oint  has no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oint indicates lo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dot represents or models a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oint is named with a capital l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2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9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21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22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23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24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26" descr=""/>
          <p:cNvPicPr/>
          <p:nvPr/>
        </p:nvPicPr>
        <p:blipFill>
          <a:blip r:embed="rId3"/>
          <a:stretch/>
        </p:blipFill>
        <p:spPr>
          <a:xfrm>
            <a:off x="5181480" y="1828800"/>
            <a:ext cx="3429000" cy="229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Text Box 14"/>
          <p:cNvSpPr/>
          <p:nvPr/>
        </p:nvSpPr>
        <p:spPr>
          <a:xfrm>
            <a:off x="457200" y="1945080"/>
            <a:ext cx="4038480" cy="42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1800" spc="-1" strike="noStrike">
                <a:solidFill>
                  <a:srgbClr val="bbe0e3"/>
                </a:solidFill>
                <a:latin typeface="Verdana"/>
              </a:rPr>
              <a:t>line</a:t>
            </a:r>
            <a:r>
              <a:rPr b="0" lang="en-US" sz="1800" spc="-1" strike="noStrike">
                <a:solidFill>
                  <a:srgbClr val="99cc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s a straight, continuous arrangement of infinitely many </a:t>
            </a:r>
            <a:r>
              <a:rPr b="0" lang="en-US" sz="1800" spc="-1" strike="noStrike">
                <a:solidFill>
                  <a:srgbClr val="99cc00"/>
                </a:solidFill>
                <a:latin typeface="Verdana"/>
              </a:rPr>
              <a:t>point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line has infinite length but no thickn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line extends forever in two direc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line may be named with two identified points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he li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line symbol (double-headed arrows) is placed over the letters naming the points on the li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ternatively, line may be named with a single, lower case let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3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9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20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21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22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23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24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25" descr=""/>
          <p:cNvPicPr/>
          <p:nvPr/>
        </p:nvPicPr>
        <p:blipFill>
          <a:blip r:embed="rId3"/>
          <a:stretch/>
        </p:blipFill>
        <p:spPr>
          <a:xfrm>
            <a:off x="5181480" y="1828800"/>
            <a:ext cx="3429000" cy="229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Text Box 14"/>
          <p:cNvSpPr/>
          <p:nvPr/>
        </p:nvSpPr>
        <p:spPr>
          <a:xfrm>
            <a:off x="533520" y="1964520"/>
            <a:ext cx="4038480" cy="44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plane</a:t>
            </a:r>
            <a:r>
              <a:rPr b="0" lang="en-US" sz="2400" spc="-1" strike="noStrike">
                <a:solidFill>
                  <a:srgbClr val="99cc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s length and width but no thickn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plane is like a flat surface the extends infinitely along its length and wid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w, click the Sketchpad logo to demonstrate this descrip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plane is represented line extends with four-sided figure, like a tilted piece of paper, drawn in perspecti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plane is named with a script capital letter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4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9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20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21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2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23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4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Group 30"/>
          <p:cNvGrpSpPr/>
          <p:nvPr/>
        </p:nvGrpSpPr>
        <p:grpSpPr>
          <a:xfrm>
            <a:off x="5393160" y="1645560"/>
            <a:ext cx="3141360" cy="2607480"/>
            <a:chOff x="5393160" y="1645560"/>
            <a:chExt cx="3141360" cy="2607480"/>
          </a:xfrm>
        </p:grpSpPr>
        <p:pic>
          <p:nvPicPr>
            <p:cNvPr id="244" name="Picture 27" descr="pick up sticks"/>
            <p:cNvPicPr/>
            <p:nvPr/>
          </p:nvPicPr>
          <p:blipFill>
            <a:blip r:embed="rId3"/>
            <a:stretch/>
          </p:blipFill>
          <p:spPr>
            <a:xfrm rot="7117200">
              <a:off x="5482800" y="1968120"/>
              <a:ext cx="1322280" cy="98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28" descr=""/>
            <p:cNvPicPr/>
            <p:nvPr/>
          </p:nvPicPr>
          <p:blipFill>
            <a:blip r:embed="rId4"/>
            <a:stretch/>
          </p:blipFill>
          <p:spPr>
            <a:xfrm>
              <a:off x="7391520" y="3886200"/>
              <a:ext cx="1143000" cy="366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46" name="Picture 29" descr=""/>
            <p:cNvPicPr/>
            <p:nvPr/>
          </p:nvPicPr>
          <p:blipFill>
            <a:blip r:embed="rId5"/>
            <a:stretch/>
          </p:blipFill>
          <p:spPr>
            <a:xfrm>
              <a:off x="5791320" y="2057400"/>
              <a:ext cx="2590560" cy="19191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Text Box 14"/>
          <p:cNvSpPr/>
          <p:nvPr/>
        </p:nvSpPr>
        <p:spPr>
          <a:xfrm>
            <a:off x="533520" y="1679040"/>
            <a:ext cx="380988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figure at the right, the flat surface represents a portion of plan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plan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ay also be named using three points that lie in the plane, such as G, F and E; please note that the three points are not on the same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5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19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20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22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23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24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25" descr=""/>
          <p:cNvPicPr/>
          <p:nvPr/>
        </p:nvPicPr>
        <p:blipFill>
          <a:blip r:embed="rId3"/>
          <a:stretch/>
        </p:blipFill>
        <p:spPr>
          <a:xfrm>
            <a:off x="5105520" y="1676520"/>
            <a:ext cx="3429000" cy="253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Text Box 14"/>
          <p:cNvSpPr/>
          <p:nvPr/>
        </p:nvSpPr>
        <p:spPr>
          <a:xfrm>
            <a:off x="533520" y="2388600"/>
            <a:ext cx="419076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linear poin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re points that lie on the same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figure at the right, A, B and C are collin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, B and D are noncollinear (not collin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Verdana"/>
              </a:rPr>
              <a:t>Any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wo</a:t>
            </a:r>
            <a:r>
              <a:rPr b="0" lang="en-US" sz="2400" spc="-1" strike="noStrike">
                <a:solidFill>
                  <a:srgbClr val="99cc00"/>
                </a:solidFill>
                <a:latin typeface="Verdana"/>
              </a:rPr>
              <a:t> points are collinea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6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19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20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21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22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23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24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Picture 30" descr=""/>
          <p:cNvPicPr/>
          <p:nvPr/>
        </p:nvPicPr>
        <p:blipFill>
          <a:blip r:embed="rId3"/>
          <a:stretch/>
        </p:blipFill>
        <p:spPr>
          <a:xfrm>
            <a:off x="5029200" y="2209680"/>
            <a:ext cx="3638520" cy="11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3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Text Box 14"/>
          <p:cNvSpPr/>
          <p:nvPr/>
        </p:nvSpPr>
        <p:spPr>
          <a:xfrm>
            <a:off x="533520" y="1837800"/>
            <a:ext cx="4114800" cy="52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planar poin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re points that lie in the same pla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figure at the right, E, F, G, and H are coplan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, F, G, and J are noncoplanar (not coplan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Verdana"/>
              </a:rPr>
              <a:t>Any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hree</a:t>
            </a:r>
            <a:r>
              <a:rPr b="0" lang="en-US" sz="2400" spc="-1" strike="noStrike">
                <a:solidFill>
                  <a:srgbClr val="99cc00"/>
                </a:solidFill>
                <a:latin typeface="Verdana"/>
              </a:rPr>
              <a:t> points are coplan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7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19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20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21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22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23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24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icture 26" descr=""/>
          <p:cNvPicPr/>
          <p:nvPr/>
        </p:nvPicPr>
        <p:blipFill>
          <a:blip r:embed="rId3"/>
          <a:stretch/>
        </p:blipFill>
        <p:spPr>
          <a:xfrm>
            <a:off x="5181480" y="1600200"/>
            <a:ext cx="3505320" cy="262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Text Box 14"/>
          <p:cNvSpPr/>
          <p:nvPr/>
        </p:nvSpPr>
        <p:spPr>
          <a:xfrm>
            <a:off x="609480" y="1295280"/>
            <a:ext cx="3810240" cy="50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the foundational terms (point, line and plane) described, other geometric figures may be defined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8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20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21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22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23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24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25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Group 28"/>
          <p:cNvGrpSpPr/>
          <p:nvPr/>
        </p:nvGrpSpPr>
        <p:grpSpPr>
          <a:xfrm>
            <a:off x="5291280" y="1981080"/>
            <a:ext cx="3243240" cy="2195280"/>
            <a:chOff x="5291280" y="1981080"/>
            <a:chExt cx="3243240" cy="2195280"/>
          </a:xfrm>
        </p:grpSpPr>
        <p:sp>
          <p:nvSpPr>
            <p:cNvPr id="299" name="Text Box 19"/>
            <p:cNvSpPr/>
            <p:nvPr/>
          </p:nvSpPr>
          <p:spPr>
            <a:xfrm>
              <a:off x="5291280" y="3656160"/>
              <a:ext cx="3243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“</a:t>
              </a: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Let no one ignorant of geometry enter my door.” - Pla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0" name="Picture 26" descr="plato"/>
            <p:cNvPicPr/>
            <p:nvPr/>
          </p:nvPicPr>
          <p:blipFill>
            <a:blip r:embed="rId3"/>
            <a:stretch/>
          </p:blipFill>
          <p:spPr>
            <a:xfrm>
              <a:off x="6353280" y="1981080"/>
              <a:ext cx="1266840" cy="15242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p:transition>
    <p:push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1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Text Box 14"/>
          <p:cNvSpPr/>
          <p:nvPr/>
        </p:nvSpPr>
        <p:spPr>
          <a:xfrm>
            <a:off x="609480" y="1600200"/>
            <a:ext cx="3810240" cy="51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segm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 part of a line that begins at one point and ends at an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oints are called the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endpoin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seg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egment is named by its endpoi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bar (no arrows) is drawn over the two capitalized let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9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20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21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22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23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24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25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Picture 26" descr=""/>
          <p:cNvPicPr/>
          <p:nvPr/>
        </p:nvPicPr>
        <p:blipFill>
          <a:blip r:embed="rId3"/>
          <a:stretch/>
        </p:blipFill>
        <p:spPr>
          <a:xfrm>
            <a:off x="5334120" y="1905120"/>
            <a:ext cx="312408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Text Box 14"/>
          <p:cNvSpPr/>
          <p:nvPr/>
        </p:nvSpPr>
        <p:spPr>
          <a:xfrm>
            <a:off x="609480" y="1600200"/>
            <a:ext cx="3962520" cy="51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ra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 of a line that starts at a point and extends infinitely in one direc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oint is called the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endpoi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r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ray is named its endpoint fi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ingle arrow (toward the infinite direction) is drawn over the two capitalized let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0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19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20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21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23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24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Picture 26" descr=""/>
          <p:cNvPicPr/>
          <p:nvPr/>
        </p:nvPicPr>
        <p:blipFill>
          <a:blip r:embed="rId3"/>
          <a:stretch/>
        </p:blipFill>
        <p:spPr>
          <a:xfrm>
            <a:off x="5334120" y="1828800"/>
            <a:ext cx="312408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7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8" name="Text Box 14"/>
          <p:cNvSpPr/>
          <p:nvPr/>
        </p:nvSpPr>
        <p:spPr>
          <a:xfrm>
            <a:off x="609480" y="1676520"/>
            <a:ext cx="396252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ang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 figure formed by two rays with a common end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ommon endpoint is the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vertex of the ang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ays are the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sides of the ang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gles are formed when lines, rays, or line segments inters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1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20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21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22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24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25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Picture 26" descr=""/>
          <p:cNvPicPr/>
          <p:nvPr/>
        </p:nvPicPr>
        <p:blipFill>
          <a:blip r:embed="rId3"/>
          <a:stretch/>
        </p:blipFill>
        <p:spPr>
          <a:xfrm>
            <a:off x="5867280" y="1447920"/>
            <a:ext cx="20383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95360" y="1841040"/>
            <a:ext cx="78739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OCR A Extended"/>
              </a:rPr>
              <a:t>Rules</a:t>
            </a:r>
            <a:r>
              <a:rPr b="0" lang="en-US" sz="8000" spc="-1" strike="noStrike">
                <a:solidFill>
                  <a:srgbClr val="ffffff"/>
                </a:solidFill>
                <a:latin typeface="OCR A Extended"/>
              </a:rPr>
              <a:t> of Mr. Kansakar</a:t>
            </a:r>
            <a:endParaRPr b="0" lang="en-US" sz="8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Text Box 14"/>
          <p:cNvSpPr/>
          <p:nvPr/>
        </p:nvSpPr>
        <p:spPr>
          <a:xfrm>
            <a:off x="609480" y="1828800"/>
            <a:ext cx="38102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angle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vides the plane into two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two points, one from each side of the angle, are connected with a segment, the segment passes through the interior of the 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2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20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21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22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23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24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25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Picture 27" descr=""/>
          <p:cNvPicPr/>
          <p:nvPr/>
        </p:nvPicPr>
        <p:blipFill>
          <a:blip r:embed="rId3"/>
          <a:stretch/>
        </p:blipFill>
        <p:spPr>
          <a:xfrm>
            <a:off x="5486400" y="1523880"/>
            <a:ext cx="2549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3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4" name="Text Box 14"/>
          <p:cNvSpPr/>
          <p:nvPr/>
        </p:nvSpPr>
        <p:spPr>
          <a:xfrm>
            <a:off x="457200" y="1585800"/>
            <a:ext cx="4114800" cy="45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angle is named using three poi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vertex must be the middle point of the n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RT 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y “angle S R T” or “angle T R 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there is no possibility of confusion, the angle may be name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 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3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20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21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22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23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24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25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Picture 29" descr=""/>
          <p:cNvPicPr/>
          <p:nvPr/>
        </p:nvPicPr>
        <p:blipFill>
          <a:blip r:embed="rId3"/>
          <a:stretch/>
        </p:blipFill>
        <p:spPr>
          <a:xfrm>
            <a:off x="5638680" y="1600200"/>
            <a:ext cx="22780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Text Box 14"/>
          <p:cNvSpPr/>
          <p:nvPr/>
        </p:nvSpPr>
        <p:spPr>
          <a:xfrm>
            <a:off x="685800" y="1752480"/>
            <a:ext cx="3809880" cy="40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geometric figures have one or more points in common, they are said to </a:t>
            </a: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intersec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et of points that they have in common is called their inters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4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20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21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22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23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4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25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26" descr=""/>
          <p:cNvPicPr/>
          <p:nvPr/>
        </p:nvPicPr>
        <p:blipFill>
          <a:blip r:embed="rId3"/>
          <a:stretch/>
        </p:blipFill>
        <p:spPr>
          <a:xfrm>
            <a:off x="5029200" y="2057400"/>
            <a:ext cx="3733920" cy="15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0" name="Text Box 14"/>
          <p:cNvSpPr/>
          <p:nvPr/>
        </p:nvSpPr>
        <p:spPr>
          <a:xfrm>
            <a:off x="457200" y="1600200"/>
            <a:ext cx="3962520" cy="56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axiomatic syste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 set stat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tatements are </a:t>
            </a:r>
            <a:r>
              <a:rPr b="0" lang="en-US" sz="2400" spc="-1" strike="noStrike">
                <a:solidFill>
                  <a:srgbClr val="bbe0e3"/>
                </a:solidFill>
                <a:latin typeface="Verdana"/>
              </a:rPr>
              <a:t>axiom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400" spc="-1" strike="noStrike">
                <a:solidFill>
                  <a:srgbClr val="bbe0e3"/>
                </a:solidFill>
                <a:latin typeface="Verdana"/>
              </a:rPr>
              <a:t>postulat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; these statements are accepted without proo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ther statements in an axiomatic system include </a:t>
            </a:r>
            <a:r>
              <a:rPr b="0" lang="en-US" sz="2400" spc="-1" strike="noStrike">
                <a:solidFill>
                  <a:srgbClr val="99cc00"/>
                </a:solidFill>
                <a:latin typeface="Verdana"/>
              </a:rPr>
              <a:t>theorem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; theorems are truths that can be derived from postul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5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20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21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22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23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24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25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Picture 26" descr="sp-thinker"/>
          <p:cNvPicPr/>
          <p:nvPr/>
        </p:nvPicPr>
        <p:blipFill>
          <a:blip r:embed="rId3"/>
          <a:stretch/>
        </p:blipFill>
        <p:spPr>
          <a:xfrm>
            <a:off x="5410080" y="2057400"/>
            <a:ext cx="289584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2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3" name="Text Box 14"/>
          <p:cNvSpPr/>
          <p:nvPr/>
        </p:nvSpPr>
        <p:spPr>
          <a:xfrm>
            <a:off x="457200" y="1528920"/>
            <a:ext cx="4114800" cy="53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athematicians accepts undefined terms and definitions so that a consistent system may be built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ike the pieces of a model that rest on others, the theorems of an axiomatic system rest on postulates and other theorem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system must be arranged logically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15"/>
          <p:cNvSpPr/>
          <p:nvPr/>
        </p:nvSpPr>
        <p:spPr>
          <a:xfrm>
            <a:off x="457200" y="1447920"/>
            <a:ext cx="4191120" cy="4952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6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20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21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22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23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24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25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4" name="Picture 26" descr="lego model"/>
          <p:cNvPicPr/>
          <p:nvPr/>
        </p:nvPicPr>
        <p:blipFill>
          <a:blip r:embed="rId3"/>
          <a:stretch/>
        </p:blipFill>
        <p:spPr>
          <a:xfrm>
            <a:off x="6019920" y="2209680"/>
            <a:ext cx="1600200" cy="118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6" name="Text Box 14"/>
          <p:cNvSpPr/>
          <p:nvPr/>
        </p:nvSpPr>
        <p:spPr>
          <a:xfrm>
            <a:off x="533520" y="1600200"/>
            <a:ext cx="380988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with all axiomatic systems, geometry is connected with log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logic is typically expressed with convincing argument or </a:t>
            </a:r>
            <a:r>
              <a:rPr b="0" lang="en-US" sz="2400" spc="-1" strike="noStrike">
                <a:solidFill>
                  <a:srgbClr val="800080"/>
                </a:solidFill>
                <a:latin typeface="Verdan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of may be used to demonstrate that things are not tr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7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20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21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22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23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24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25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Picture 26" descr="proof"/>
          <p:cNvPicPr/>
          <p:nvPr/>
        </p:nvPicPr>
        <p:blipFill>
          <a:blip r:embed="rId3"/>
          <a:stretch/>
        </p:blipFill>
        <p:spPr>
          <a:xfrm>
            <a:off x="5257800" y="2362320"/>
            <a:ext cx="3048120" cy="950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8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9" name="Text Box 14"/>
          <p:cNvSpPr/>
          <p:nvPr/>
        </p:nvSpPr>
        <p:spPr>
          <a:xfrm>
            <a:off x="457200" y="1600200"/>
            <a:ext cx="419112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ine the geometric model at the r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cifically, identify the places where lines intersect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e the postul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Verdana"/>
              </a:rPr>
              <a:t>The intersection of two lines is a 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8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20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21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22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23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24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25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Picture 26" descr="cube"/>
          <p:cNvPicPr/>
          <p:nvPr/>
        </p:nvPicPr>
        <p:blipFill>
          <a:blip r:embed="rId3"/>
          <a:stretch/>
        </p:blipFill>
        <p:spPr>
          <a:xfrm>
            <a:off x="5867280" y="1752480"/>
            <a:ext cx="2260800" cy="236232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27"/>
          <p:cNvSpPr/>
          <p:nvPr/>
        </p:nvSpPr>
        <p:spPr>
          <a:xfrm>
            <a:off x="1828800" y="48006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2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3" name="Text Box 14"/>
          <p:cNvSpPr/>
          <p:nvPr/>
        </p:nvSpPr>
        <p:spPr>
          <a:xfrm>
            <a:off x="533520" y="1600200"/>
            <a:ext cx="4114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ider the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cifically, identify the places in the diagram where planes intersect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e the postul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Verdana"/>
              </a:rPr>
              <a:t>The intersection of two planes is a 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9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19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20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21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22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 action="ppaction://hlinksldjump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23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24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Picture 25" descr="cube"/>
          <p:cNvPicPr/>
          <p:nvPr/>
        </p:nvPicPr>
        <p:blipFill>
          <a:blip r:embed="rId3"/>
          <a:stretch/>
        </p:blipFill>
        <p:spPr>
          <a:xfrm>
            <a:off x="5867280" y="1752480"/>
            <a:ext cx="2260800" cy="2362320"/>
          </a:xfrm>
          <a:prstGeom prst="rect">
            <a:avLst/>
          </a:prstGeom>
          <a:ln w="0">
            <a:noFill/>
          </a:ln>
        </p:spPr>
      </p:pic>
      <p:sp>
        <p:nvSpPr>
          <p:cNvPr id="445" name="Text Box 26"/>
          <p:cNvSpPr/>
          <p:nvPr/>
        </p:nvSpPr>
        <p:spPr>
          <a:xfrm>
            <a:off x="1981080" y="48006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6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7" name="Text Box 14"/>
          <p:cNvSpPr/>
          <p:nvPr/>
        </p:nvSpPr>
        <p:spPr>
          <a:xfrm>
            <a:off x="685800" y="1523880"/>
            <a:ext cx="3809880" cy="51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ider the model. Look at points A and 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many lines pass through these two poi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e the postul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Verdana"/>
              </a:rPr>
              <a:t>Through any two points there is exactly one 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15"/>
          <p:cNvSpPr/>
          <p:nvPr/>
        </p:nvSpPr>
        <p:spPr>
          <a:xfrm>
            <a:off x="457200" y="1371600"/>
            <a:ext cx="4191120" cy="5029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20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18"/>
          <p:cNvSpPr/>
          <p:nvPr/>
        </p:nvSpPr>
        <p:spPr>
          <a:xfrm>
            <a:off x="5105520" y="1371600"/>
            <a:ext cx="3581280" cy="3048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9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20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21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22"/>
          <p:cNvSpPr/>
          <p:nvPr/>
        </p:nvSpPr>
        <p:spPr>
          <a:xfrm>
            <a:off x="5479920" y="556272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24"/>
          <p:cNvSpPr/>
          <p:nvPr/>
        </p:nvSpPr>
        <p:spPr>
          <a:xfrm>
            <a:off x="7391520" y="5562720"/>
            <a:ext cx="32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8" name="Picture 25" descr="cube"/>
          <p:cNvPicPr/>
          <p:nvPr/>
        </p:nvPicPr>
        <p:blipFill>
          <a:blip r:embed="rId1"/>
          <a:stretch/>
        </p:blipFill>
        <p:spPr>
          <a:xfrm>
            <a:off x="5867280" y="1752480"/>
            <a:ext cx="2260800" cy="236232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26"/>
          <p:cNvSpPr/>
          <p:nvPr/>
        </p:nvSpPr>
        <p:spPr>
          <a:xfrm>
            <a:off x="2209680" y="55627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0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1" name="Text Box 14"/>
          <p:cNvSpPr/>
          <p:nvPr/>
        </p:nvSpPr>
        <p:spPr>
          <a:xfrm>
            <a:off x="457200" y="1676520"/>
            <a:ext cx="4267080" cy="50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ider the model. Look at points A, E and 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many planes pass through these three noncollinear poi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e the postul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cc00"/>
                </a:solidFill>
                <a:latin typeface="Verdana"/>
              </a:rPr>
              <a:t>Through any three noncollinear points there is exactly one _______________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21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19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20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21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22"/>
          <p:cNvSpPr/>
          <p:nvPr/>
        </p:nvSpPr>
        <p:spPr>
          <a:xfrm>
            <a:off x="5479920" y="556272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23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24"/>
          <p:cNvSpPr/>
          <p:nvPr/>
        </p:nvSpPr>
        <p:spPr>
          <a:xfrm>
            <a:off x="7391520" y="5562720"/>
            <a:ext cx="32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Picture 25" descr="cube"/>
          <p:cNvPicPr/>
          <p:nvPr/>
        </p:nvPicPr>
        <p:blipFill>
          <a:blip r:embed="rId1"/>
          <a:stretch/>
        </p:blipFill>
        <p:spPr>
          <a:xfrm>
            <a:off x="5867280" y="1752480"/>
            <a:ext cx="2260800" cy="2362320"/>
          </a:xfrm>
          <a:prstGeom prst="rect">
            <a:avLst/>
          </a:prstGeom>
          <a:ln w="0">
            <a:noFill/>
          </a:ln>
        </p:spPr>
      </p:pic>
      <p:sp>
        <p:nvSpPr>
          <p:cNvPr id="473" name="Text Box 26"/>
          <p:cNvSpPr/>
          <p:nvPr/>
        </p:nvSpPr>
        <p:spPr>
          <a:xfrm>
            <a:off x="1752480" y="52578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pl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28280" y="1599840"/>
            <a:ext cx="845820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OCR A Extended"/>
              </a:rPr>
              <a:t>Consequences</a:t>
            </a:r>
            <a:r>
              <a:rPr b="0" lang="en-US" sz="8000" spc="-1" strike="noStrike">
                <a:solidFill>
                  <a:srgbClr val="ffffff"/>
                </a:solidFill>
                <a:latin typeface="OCR A Extended"/>
              </a:rPr>
              <a:t> of Mr. Kansakar</a:t>
            </a:r>
            <a:endParaRPr b="0" lang="en-US" sz="8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4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5" name="Text Box 14"/>
          <p:cNvSpPr/>
          <p:nvPr/>
        </p:nvSpPr>
        <p:spPr>
          <a:xfrm>
            <a:off x="457200" y="1600200"/>
            <a:ext cx="4191120" cy="49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ick any plane in the illustration; pick two points that are in the plane. Name the line that pas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the line in the plane you selec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e the postul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Verdana"/>
              </a:rPr>
              <a:t>If two points are in a plane, then the line containing them  _____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22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19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20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21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22"/>
          <p:cNvSpPr/>
          <p:nvPr/>
        </p:nvSpPr>
        <p:spPr>
          <a:xfrm>
            <a:off x="5479920" y="556272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23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24"/>
          <p:cNvSpPr/>
          <p:nvPr/>
        </p:nvSpPr>
        <p:spPr>
          <a:xfrm>
            <a:off x="7391520" y="5562720"/>
            <a:ext cx="32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Picture 25" descr="cube"/>
          <p:cNvPicPr/>
          <p:nvPr/>
        </p:nvPicPr>
        <p:blipFill>
          <a:blip r:embed="rId1"/>
          <a:stretch/>
        </p:blipFill>
        <p:spPr>
          <a:xfrm>
            <a:off x="5867280" y="1752480"/>
            <a:ext cx="2260800" cy="236232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26"/>
          <p:cNvSpPr/>
          <p:nvPr/>
        </p:nvSpPr>
        <p:spPr>
          <a:xfrm>
            <a:off x="990720" y="574524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is in the pl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38"/>
          <p:cNvSpPr/>
          <p:nvPr/>
        </p:nvSpPr>
        <p:spPr>
          <a:xfrm>
            <a:off x="2666880" y="411480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lease go back or choose a topic from ab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217440" y="3124080"/>
          <a:ext cx="8621640" cy="533520"/>
        </p:xfrm>
        <a:graphic>
          <a:graphicData uri="http://schemas.openxmlformats.org/drawingml/2006/table">
            <a:tbl>
              <a:tblPr/>
              <a:tblGrid>
                <a:gridCol w="2559240"/>
                <a:gridCol w="2290680"/>
                <a:gridCol w="2020680"/>
                <a:gridCol w="1751040"/>
              </a:tblGrid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trod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amp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act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0" name=""/>
          <p:cNvGraphicFramePr/>
          <p:nvPr/>
        </p:nvGraphicFramePr>
        <p:xfrm>
          <a:off x="228600" y="228600"/>
          <a:ext cx="8686800" cy="457200"/>
        </p:xfrm>
        <a:graphic>
          <a:graphicData uri="http://schemas.openxmlformats.org/drawingml/2006/table">
            <a:tbl>
              <a:tblPr/>
              <a:tblGrid>
                <a:gridCol w="2127240"/>
                <a:gridCol w="2216160"/>
                <a:gridCol w="2171880"/>
                <a:gridCol w="2171520"/>
              </a:tblGrid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1" name="Text Box 22"/>
          <p:cNvSpPr/>
          <p:nvPr/>
        </p:nvSpPr>
        <p:spPr>
          <a:xfrm>
            <a:off x="5334120" y="4952880"/>
            <a:ext cx="3047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26"/>
          <p:cNvSpPr/>
          <p:nvPr/>
        </p:nvSpPr>
        <p:spPr>
          <a:xfrm>
            <a:off x="609480" y="1600200"/>
            <a:ext cx="3810240" cy="26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 you answer questions 1-8  and 12-14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27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28"/>
          <p:cNvSpPr/>
          <p:nvPr/>
        </p:nvSpPr>
        <p:spPr>
          <a:xfrm>
            <a:off x="5105520" y="4648320"/>
            <a:ext cx="3657600" cy="1676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31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Picture 33" descr="dmbtest"/>
          <p:cNvPicPr/>
          <p:nvPr/>
        </p:nvPicPr>
        <p:blipFill>
          <a:blip r:embed="rId1"/>
          <a:stretch/>
        </p:blipFill>
        <p:spPr>
          <a:xfrm>
            <a:off x="5943600" y="1828800"/>
            <a:ext cx="1905120" cy="2286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38"/>
          <p:cNvSpPr/>
          <p:nvPr/>
        </p:nvSpPr>
        <p:spPr>
          <a:xfrm>
            <a:off x="2666880" y="411480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lease go back or choose a topic from ab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217440" y="3124080"/>
          <a:ext cx="8540640" cy="685800"/>
        </p:xfrm>
        <a:graphic>
          <a:graphicData uri="http://schemas.openxmlformats.org/drawingml/2006/table">
            <a:tbl>
              <a:tblPr/>
              <a:tblGrid>
                <a:gridCol w="2135160"/>
                <a:gridCol w="2135160"/>
                <a:gridCol w="2135160"/>
                <a:gridCol w="213516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trod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amp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act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9" name=""/>
          <p:cNvGraphicFramePr/>
          <p:nvPr/>
        </p:nvGraphicFramePr>
        <p:xfrm>
          <a:off x="228600" y="228600"/>
          <a:ext cx="8686800" cy="45720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sp>
        <p:nvSpPr>
          <p:cNvPr id="500" name="Text Box 23"/>
          <p:cNvSpPr/>
          <p:nvPr/>
        </p:nvSpPr>
        <p:spPr>
          <a:xfrm>
            <a:off x="533520" y="1752480"/>
            <a:ext cx="380988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act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://my.hrw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lt On-line &amp; Homework help Lesson 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24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25"/>
          <p:cNvSpPr/>
          <p:nvPr/>
        </p:nvSpPr>
        <p:spPr>
          <a:xfrm>
            <a:off x="5105520" y="4648320"/>
            <a:ext cx="3657600" cy="1676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26"/>
          <p:cNvSpPr/>
          <p:nvPr/>
        </p:nvSpPr>
        <p:spPr>
          <a:xfrm>
            <a:off x="5334120" y="4876920"/>
            <a:ext cx="320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geometric objects do you see in this pic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28"/>
          <p:cNvSpPr/>
          <p:nvPr/>
        </p:nvSpPr>
        <p:spPr>
          <a:xfrm>
            <a:off x="5105520" y="1600200"/>
            <a:ext cx="3657600" cy="2819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Picture 30" descr="hello"/>
          <p:cNvPicPr/>
          <p:nvPr/>
        </p:nvPicPr>
        <p:blipFill>
          <a:blip r:embed="rId1"/>
          <a:stretch/>
        </p:blipFill>
        <p:spPr>
          <a:xfrm>
            <a:off x="6019920" y="1828800"/>
            <a:ext cx="2022480" cy="2286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20"/>
          <p:cNvSpPr/>
          <p:nvPr/>
        </p:nvSpPr>
        <p:spPr>
          <a:xfrm>
            <a:off x="2666880" y="411480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lease go back or choose a topic from ab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217440" y="3124080"/>
          <a:ext cx="8540640" cy="609840"/>
        </p:xfrm>
        <a:graphic>
          <a:graphicData uri="http://schemas.openxmlformats.org/drawingml/2006/table">
            <a:tbl>
              <a:tblPr/>
              <a:tblGrid>
                <a:gridCol w="2135160"/>
                <a:gridCol w="2135160"/>
                <a:gridCol w="2135160"/>
                <a:gridCol w="2135160"/>
              </a:tblGrid>
              <a:tr h="60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trod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amp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act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2"/>
          <p:cNvSpPr/>
          <p:nvPr/>
        </p:nvSpPr>
        <p:spPr>
          <a:xfrm>
            <a:off x="5334120" y="228600"/>
            <a:ext cx="3570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00000"/>
                </a:solidFill>
                <a:uFillTx/>
                <a:latin typeface="Verdana"/>
              </a:rPr>
              <a:t>Example 1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4"/>
          <p:cNvSpPr/>
          <p:nvPr/>
        </p:nvSpPr>
        <p:spPr>
          <a:xfrm>
            <a:off x="4038480" y="1447920"/>
            <a:ext cx="4267440" cy="4952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457200" y="304920"/>
            <a:ext cx="20574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ck to ma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Picture 7" descr=""/>
          <p:cNvPicPr/>
          <p:nvPr/>
        </p:nvPicPr>
        <p:blipFill>
          <a:blip r:embed="rId2"/>
          <a:stretch/>
        </p:blipFill>
        <p:spPr>
          <a:xfrm>
            <a:off x="533520" y="2133720"/>
            <a:ext cx="2998800" cy="3352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12" name="Text Box 8"/>
          <p:cNvSpPr/>
          <p:nvPr/>
        </p:nvSpPr>
        <p:spPr>
          <a:xfrm>
            <a:off x="4191120" y="1371600"/>
            <a:ext cx="4114800" cy="49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me the intersection of plane ABDC and plane YZD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many lines in the figure contain point Z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many planes in the figure contain line B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ue or false: Two planes intersect in exactly one poi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10"/>
          <p:cNvSpPr/>
          <p:nvPr/>
        </p:nvSpPr>
        <p:spPr>
          <a:xfrm>
            <a:off x="5257800" y="2133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line B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4343400" y="32767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Two – line DZ and Y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4114800" y="4495680"/>
            <a:ext cx="4343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Verdana"/>
              </a:rPr>
              <a:t>plane BAXY and plane YZD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13"/>
          <p:cNvSpPr/>
          <p:nvPr/>
        </p:nvSpPr>
        <p:spPr>
          <a:xfrm>
            <a:off x="4876920" y="57150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False -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14"/>
          <p:cNvSpPr/>
          <p:nvPr/>
        </p:nvSpPr>
        <p:spPr>
          <a:xfrm>
            <a:off x="7234560" y="4114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Line 16"/>
          <p:cNvSpPr/>
          <p:nvPr/>
        </p:nvSpPr>
        <p:spPr>
          <a:xfrm>
            <a:off x="2590920" y="2286000"/>
            <a:ext cx="0" cy="297180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AutoShape 17"/>
          <p:cNvSpPr/>
          <p:nvPr/>
        </p:nvSpPr>
        <p:spPr>
          <a:xfrm flipH="1" flipV="1" rot="18617400">
            <a:off x="2036160" y="3221640"/>
            <a:ext cx="1385640" cy="896760"/>
          </a:xfrm>
          <a:prstGeom prst="parallelogram">
            <a:avLst>
              <a:gd name="adj" fmla="val 113240"/>
            </a:avLst>
          </a:prstGeom>
          <a:solidFill>
            <a:srgbClr val="cc00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18"/>
          <p:cNvSpPr/>
          <p:nvPr/>
        </p:nvSpPr>
        <p:spPr>
          <a:xfrm>
            <a:off x="1219320" y="3251160"/>
            <a:ext cx="1320840" cy="1320840"/>
          </a:xfrm>
          <a:prstGeom prst="rect">
            <a:avLst/>
          </a:prstGeom>
          <a:solidFill>
            <a:srgbClr val="cc00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Oval 19"/>
          <p:cNvSpPr/>
          <p:nvPr/>
        </p:nvSpPr>
        <p:spPr>
          <a:xfrm>
            <a:off x="2743200" y="4076640"/>
            <a:ext cx="216000" cy="216000"/>
          </a:xfrm>
          <a:prstGeom prst="ellipse">
            <a:avLst/>
          </a:prstGeom>
          <a:solidFill>
            <a:srgbClr val="cc00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20"/>
          <p:cNvSpPr/>
          <p:nvPr/>
        </p:nvSpPr>
        <p:spPr>
          <a:xfrm flipV="1">
            <a:off x="1994040" y="3517920"/>
            <a:ext cx="1422360" cy="172728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21"/>
          <p:cNvSpPr/>
          <p:nvPr/>
        </p:nvSpPr>
        <p:spPr>
          <a:xfrm>
            <a:off x="2844720" y="2298600"/>
            <a:ext cx="12960" cy="281952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Line 22"/>
          <p:cNvSpPr/>
          <p:nvPr/>
        </p:nvSpPr>
        <p:spPr>
          <a:xfrm flipV="1">
            <a:off x="2217960" y="2222640"/>
            <a:ext cx="1037880" cy="146016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AutoShape 23"/>
          <p:cNvSpPr/>
          <p:nvPr/>
        </p:nvSpPr>
        <p:spPr>
          <a:xfrm>
            <a:off x="1143000" y="2768760"/>
            <a:ext cx="1714680" cy="469800"/>
          </a:xfrm>
          <a:prstGeom prst="parallelogram">
            <a:avLst>
              <a:gd name="adj" fmla="val 92985"/>
            </a:avLst>
          </a:prstGeom>
          <a:solidFill>
            <a:srgbClr val="cc00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1" dur="2000" fill="hold"/>
                                        <p:tgtEl>
                                          <p:spTgt spid="5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9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9" dur="2000" fill="hold"/>
                                        <p:tgtEl>
                                          <p:spTgt spid="5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3"/>
          <p:cNvSpPr/>
          <p:nvPr/>
        </p:nvSpPr>
        <p:spPr>
          <a:xfrm>
            <a:off x="5334120" y="228600"/>
            <a:ext cx="3570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00000"/>
                </a:solidFill>
                <a:uFillTx/>
                <a:latin typeface="Verdana"/>
              </a:rPr>
              <a:t>Example 2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4"/>
          <p:cNvSpPr/>
          <p:nvPr/>
        </p:nvSpPr>
        <p:spPr>
          <a:xfrm>
            <a:off x="4114800" y="1447920"/>
            <a:ext cx="4191120" cy="70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Verdana"/>
              </a:rPr>
              <a:t>Classify each statement as </a:t>
            </a:r>
            <a:r>
              <a:rPr b="0" lang="en-US" sz="2400" spc="-1" strike="noStrike">
                <a:solidFill>
                  <a:srgbClr val="99cc00"/>
                </a:solidFill>
                <a:latin typeface="Verdana"/>
              </a:rPr>
              <a:t>true</a:t>
            </a:r>
            <a:r>
              <a:rPr b="0" lang="en-US" sz="2400" spc="-1" strike="noStrike">
                <a:solidFill>
                  <a:srgbClr val="99cc00"/>
                </a:solidFill>
                <a:latin typeface="Verdana"/>
              </a:rPr>
              <a:t> or </a:t>
            </a:r>
            <a:r>
              <a:rPr b="0" lang="en-US" sz="2400" spc="-1" strike="noStrike">
                <a:solidFill>
                  <a:srgbClr val="99cc00"/>
                </a:solidFill>
                <a:latin typeface="Verdana"/>
              </a:rPr>
              <a:t>false</a:t>
            </a:r>
            <a:r>
              <a:rPr b="0" lang="en-US" sz="2400" spc="-1" strike="noStrike">
                <a:solidFill>
                  <a:srgbClr val="99cc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 lines intersect in a pla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 lines are contained in exactly one pla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y three points are contained in exactly one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5"/>
          <p:cNvSpPr/>
          <p:nvPr/>
        </p:nvSpPr>
        <p:spPr>
          <a:xfrm>
            <a:off x="4038480" y="1447920"/>
            <a:ext cx="4267440" cy="4952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6"/>
          <p:cNvSpPr/>
          <p:nvPr/>
        </p:nvSpPr>
        <p:spPr>
          <a:xfrm>
            <a:off x="457200" y="304920"/>
            <a:ext cx="20574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ck to ma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7"/>
          <p:cNvSpPr/>
          <p:nvPr/>
        </p:nvSpPr>
        <p:spPr>
          <a:xfrm>
            <a:off x="5257800" y="2819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False -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8"/>
          <p:cNvSpPr/>
          <p:nvPr/>
        </p:nvSpPr>
        <p:spPr>
          <a:xfrm>
            <a:off x="4114800" y="4038480"/>
            <a:ext cx="4572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Verdana"/>
              </a:rPr>
              <a:t>False – could be skew lin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9"/>
          <p:cNvSpPr/>
          <p:nvPr/>
        </p:nvSpPr>
        <p:spPr>
          <a:xfrm>
            <a:off x="4038480" y="5653080"/>
            <a:ext cx="46483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Verdana"/>
              </a:rPr>
              <a:t>False – only collinear poin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0"/>
          <p:cNvSpPr/>
          <p:nvPr/>
        </p:nvSpPr>
        <p:spPr>
          <a:xfrm>
            <a:off x="2666880" y="411480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lease go back or choose a topic from ab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217440" y="3124080"/>
          <a:ext cx="8540640" cy="609840"/>
        </p:xfrm>
        <a:graphic>
          <a:graphicData uri="http://schemas.openxmlformats.org/drawingml/2006/table">
            <a:tbl>
              <a:tblPr/>
              <a:tblGrid>
                <a:gridCol w="2135160"/>
                <a:gridCol w="2135160"/>
                <a:gridCol w="2135160"/>
                <a:gridCol w="2135160"/>
              </a:tblGrid>
              <a:tr h="60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trod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amp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act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282680" y="2361960"/>
            <a:ext cx="60199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OCR A Extended"/>
              </a:rPr>
              <a:t>Tardy Wars</a:t>
            </a:r>
            <a:endParaRPr b="0" lang="en-US" sz="72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396800" y="1942920"/>
            <a:ext cx="60195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OCR A Extended"/>
              </a:rPr>
              <a:t>Do First </a:t>
            </a:r>
            <a:r>
              <a:rPr b="0" lang="en-US" sz="8800" spc="-1" strike="noStrike">
                <a:solidFill>
                  <a:srgbClr val="ff0000"/>
                </a:solidFill>
                <a:latin typeface="OCR A Extended"/>
              </a:rPr>
              <a:t>Battle</a:t>
            </a:r>
            <a:endParaRPr b="0" lang="en-US" sz="88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36200" y="685800"/>
            <a:ext cx="740412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OCR A Extended"/>
              </a:rPr>
              <a:t>All I do is </a:t>
            </a:r>
            <a:r>
              <a:rPr b="0" lang="en-US" sz="7200" spc="-1" strike="noStrike">
                <a:solidFill>
                  <a:srgbClr val="92d050"/>
                </a:solidFill>
                <a:latin typeface="OCR A Extended"/>
              </a:rPr>
              <a:t>Win</a:t>
            </a:r>
            <a:r>
              <a:rPr b="0" lang="en-US" sz="7200" spc="-1" strike="noStrike">
                <a:solidFill>
                  <a:srgbClr val="ffffff"/>
                </a:solidFill>
                <a:latin typeface="OCR A Extended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OCR A Extended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030a0"/>
                </a:solidFill>
                <a:latin typeface="OCR A Extended"/>
              </a:rPr>
              <a:t>Win</a:t>
            </a:r>
            <a:r>
              <a:rPr b="0" lang="en-US" sz="7200" spc="-1" strike="noStrike">
                <a:solidFill>
                  <a:srgbClr val="ffffff"/>
                </a:solidFill>
                <a:latin typeface="OCR A Extended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OCR A Extended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OCR A Extended"/>
              </a:rPr>
              <a:t>Win</a:t>
            </a:r>
            <a:endParaRPr b="0" lang="en-US" sz="72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774360" y="1802880"/>
            <a:ext cx="7302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OCR A Extended"/>
              </a:rPr>
              <a:t>Individual Tracker</a:t>
            </a:r>
            <a:endParaRPr b="0" lang="en-US" sz="8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774720" y="1231920"/>
            <a:ext cx="731520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OCR A Extended"/>
              </a:rPr>
              <a:t>Procedures</a:t>
            </a:r>
            <a:r>
              <a:rPr b="0" lang="en-US" sz="8000" spc="-1" strike="noStrike">
                <a:solidFill>
                  <a:srgbClr val="ffffff"/>
                </a:solidFill>
                <a:latin typeface="OCR A Extended"/>
              </a:rPr>
              <a:t> of </a:t>
            </a:r>
            <a:endParaRPr b="0" lang="en-US" sz="8000" spc="-1" strike="noStrike">
              <a:solidFill>
                <a:srgbClr val="ffffff"/>
              </a:solidFill>
              <a:latin typeface="OCR A Extended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OCR A Extended"/>
              </a:rPr>
              <a:t>Mr. Kansakar</a:t>
            </a:r>
            <a:endParaRPr b="0" lang="en-US" sz="8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0T15:14:29Z</dcterms:created>
  <dc:creator>Localuser</dc:creator>
  <dc:description/>
  <dc:language>en-US</dc:language>
  <cp:lastModifiedBy>Kansakar</cp:lastModifiedBy>
  <dcterms:modified xsi:type="dcterms:W3CDTF">2010-08-22T14:58:07Z</dcterms:modified>
  <cp:revision>62</cp:revision>
  <dc:subject/>
  <dc:title>Binary Presentation</dc:title>
</cp:coreProperties>
</file>