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2.png" ContentType="image/png"/>
  <Override PartName="/ppt/media/image24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9.wmf" ContentType="image/x-wmf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23.wmf" ContentType="image/x-wmf"/>
  <Override PartName="/ppt/media/image9.jpeg" ContentType="image/jpeg"/>
  <Override PartName="/ppt/media/image11.jpeg" ContentType="image/jpeg"/>
  <Override PartName="/ppt/media/image30.jpeg" ContentType="image/jpeg"/>
  <Override PartName="/ppt/media/image33.wmf" ContentType="image/x-wmf"/>
  <Override PartName="/ppt/media/image12.jpeg" ContentType="image/jpeg"/>
  <Override PartName="/ppt/media/image34.wmf" ContentType="image/x-wmf"/>
  <Override PartName="/ppt/media/image36.wmf" ContentType="image/x-wmf"/>
  <Override PartName="/ppt/media/image37.png" ContentType="image/png"/>
  <Override PartName="/ppt/media/image41.png" ContentType="image/png"/>
  <Override PartName="/ppt/media/image42.png" ContentType="image/png"/>
  <Override PartName="/ppt/media/image2.jpeg" ContentType="image/jpeg"/>
  <Override PartName="/ppt/media/image4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4.png" ContentType="image/png"/>
  <Override PartName="/ppt/media/image10.jpeg" ContentType="image/jpeg"/>
  <Override PartName="/ppt/media/image38.jpeg" ContentType="image/jpeg"/>
  <Override PartName="/ppt/media/image31.wmf" ContentType="image/x-wmf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1.jpeg" ContentType="image/jpeg"/>
  <Override PartName="/ppt/media/image15.jpeg" ContentType="image/jpeg"/>
  <Override PartName="/ppt/media/image2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2311-3BD8-4A8E-B7ED-51F3DCD66A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30F11-A79F-446C-9216-B9911B41A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5FF4-492B-4044-8443-C50EDFB4C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5224-E338-4769-909D-514818C29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6B6AA-8A06-460C-AC5C-4131721EF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1DE7-A711-4F47-B953-AEE6A50E3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B0F4-5389-4D00-96E7-1422B0162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A6F70-60CB-47EA-9743-915FBF1DA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D2E99-980C-4A80-BE9F-DCED12359B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D1757-82C5-406A-9513-D6E645F665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294C2-B790-449C-9B82-93A0347071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960A-36D2-482F-9F11-7321B9B16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C51B4-0D00-4178-BD27-AE0D99917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8D8E-E627-43B8-A28A-C0D1333A0E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3E71-0498-4617-91B0-F4DB24497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1BDF-416D-4933-811E-2439C93D81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DC4F-992D-4759-B414-460C713B4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880C-FC59-448A-A76D-CF136DB28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2390-0DFD-46A8-BFDD-3851D4256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EE57-F124-4A67-862B-9B8FAB3D6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919A-5506-4E8B-848B-C71997F6B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B388-2F02-45A9-98C9-02F906207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D288-FDB7-4C75-91E7-03640D5FE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81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83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2828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81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483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B2F2-B128-43F1-A07D-9BF20FBA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3C70-A937-4ABD-B688-003636F4C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AC5-99A0-459F-A317-F231F66F1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27B-BFF2-4652-B0FC-919F2946C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3CBF-03F7-47A6-88E3-B89A9AFA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257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EBA-46C1-4D23-8905-9E2A89DC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38C4-BE57-43BE-9BAD-C62EC9B2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7B47-2A23-4C7F-A739-135A3EA49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F1E1-2314-4D14-AE68-BBE21E78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D407-E94C-401B-9D2F-20772E9E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18AB-B592-45B6-B6B3-EB502A03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881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483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2828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881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483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2812-F494-46BC-A968-C55D66673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4CE9-D445-4BC3-A368-EEF876D9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EB3AC-1259-47A6-BA16-2A94E62C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2103-9EA3-42F8-AFCA-12A71DF36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3238-FC1C-4687-B688-87C6D461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02E0-BB09-4EDB-9CB6-BD47A33B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257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580A-C13D-4ADE-BA5F-D7599CA17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47C7-3D90-489F-B60E-778609F9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DE99-DB1D-4A4E-A978-2A9DB54D4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62E92-1A66-4800-86ED-21B26EB96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BB408-8214-4C56-A000-2DBBC44C5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9F26E-D890-42D5-9BD9-037ABB7A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881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483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828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881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483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7B67-5B3C-42B3-A420-BA5C9AAB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257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1920" y="1523520"/>
            <a:ext cx="6705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-360" y="663264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B686-CE08-4A54-9984-E7E19E2B9616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51920" y="1523520"/>
            <a:ext cx="6705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-36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9CEB0-3667-4293-978F-763381A0BDFB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agutie.homestead.com/files/index.html" TargetMode="Externa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887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OCR A Extended"/>
              </a:rPr>
              <a:t>DO First</a:t>
            </a:r>
            <a:endParaRPr b="0" lang="en-US" sz="44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2760" y="1599840"/>
            <a:ext cx="87040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OCR A Extended"/>
              </a:rPr>
              <a:t>In your posted notes,  write down the characteristics of a classroom where you have learned a lot.</a:t>
            </a:r>
            <a:endParaRPr b="0" lang="en-US" sz="48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03520" y="60580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OCR A Extended"/>
              </a:rPr>
              <a:t>About me</a:t>
            </a:r>
            <a:endParaRPr b="0" lang="en-US" sz="54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141" name="Picture 6" descr="http://upload.wikimedia.org/wikipedia/commons/7/78/The_Blue_Marble.jpg"/>
          <p:cNvPicPr/>
          <p:nvPr/>
        </p:nvPicPr>
        <p:blipFill>
          <a:blip r:embed="rId1"/>
          <a:srcRect l="0" t="13854" r="0" b="13854"/>
          <a:stretch/>
        </p:blipFill>
        <p:spPr>
          <a:xfrm>
            <a:off x="1397160" y="50796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OCR A Extended"/>
              </a:rPr>
              <a:t>I am from Nepal</a:t>
            </a:r>
            <a:endParaRPr b="0" lang="en-US" sz="44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144" name="Picture 2" descr="http://www.bugbog.com/images/maps/nepal-map.jpg"/>
          <p:cNvPicPr/>
          <p:nvPr/>
        </p:nvPicPr>
        <p:blipFill>
          <a:blip r:embed="rId1"/>
          <a:srcRect l="0" t="253" r="0" b="253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148" name="Picture 2" descr="http://t3.gstatic.com/images?q=tbn:ANd9GcTWBBbb3ZmZBbOKVBqmCpeViTIYjHt27hybKCYpLy8FHYnfUnw&amp;t=1&amp;usg=__trh4VxhUSBjDv5r3_Ku6awdlEic="/>
          <p:cNvPicPr/>
          <p:nvPr/>
        </p:nvPicPr>
        <p:blipFill>
          <a:blip r:embed="rId2"/>
          <a:stretch/>
        </p:blipFill>
        <p:spPr>
          <a:xfrm>
            <a:off x="0" y="0"/>
            <a:ext cx="4111560" cy="2666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t2.gstatic.com/images?q=tbn:ANd9GcTfmYu9XdDzZrkpuD_jzCc-K599Uj9lVm_R7yg_OIG56L6M-Rk&amp;t=1&amp;usg=__k2nFrcf48k9dHxA3UL6QdNfOh4k="/>
          <p:cNvPicPr/>
          <p:nvPr/>
        </p:nvPicPr>
        <p:blipFill>
          <a:blip r:embed="rId3"/>
          <a:stretch/>
        </p:blipFill>
        <p:spPr>
          <a:xfrm>
            <a:off x="4118040" y="0"/>
            <a:ext cx="3720960" cy="269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t2.gstatic.com/images?q=tbn:ANd9GcQGXPAac5L76OFzk_vSUesZa61ssgGsWlKDrNqIKsUUKrv2GE8&amp;t=1&amp;usg=__KZgn9L0XPGtCqu5uL5ETh_u3-so="/>
          <p:cNvPicPr/>
          <p:nvPr/>
        </p:nvPicPr>
        <p:blipFill>
          <a:blip r:embed="rId4"/>
          <a:stretch/>
        </p:blipFill>
        <p:spPr>
          <a:xfrm>
            <a:off x="0" y="2671920"/>
            <a:ext cx="4140360" cy="3100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t0.gstatic.com/images?q=tbn:ANd9GcSlcjMk45LS35IYFrn5_5k7VLGb_7T64tQUHSH6lGwwinjr0oc&amp;t=1&amp;usg=__2s_-yFQeRgBkphi_1YxkX5mZBrY="/>
          <p:cNvPicPr/>
          <p:nvPr/>
        </p:nvPicPr>
        <p:blipFill>
          <a:blip r:embed="rId5"/>
          <a:stretch/>
        </p:blipFill>
        <p:spPr>
          <a:xfrm>
            <a:off x="4130640" y="2682720"/>
            <a:ext cx="334980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66832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Geometric Structur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Basic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304920" y="228600"/>
          <a:ext cx="8534160" cy="304920"/>
        </p:xfrm>
        <a:graphic>
          <a:graphicData uri="http://schemas.openxmlformats.org/drawingml/2006/table">
            <a:tbl>
              <a:tblPr/>
              <a:tblGrid>
                <a:gridCol w="2220840"/>
                <a:gridCol w="2046240"/>
                <a:gridCol w="2133720"/>
                <a:gridCol w="2133360"/>
              </a:tblGrid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26"/>
          <p:cNvSpPr/>
          <p:nvPr/>
        </p:nvSpPr>
        <p:spPr>
          <a:xfrm>
            <a:off x="609480" y="1600200"/>
            <a:ext cx="38102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ometry is a way of thinking about and seeing the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ometry is evident in nature, art and cul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8"/>
          <p:cNvSpPr/>
          <p:nvPr/>
        </p:nvSpPr>
        <p:spPr>
          <a:xfrm>
            <a:off x="457200" y="152388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5334120" y="4800600"/>
            <a:ext cx="32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geometric objects do you se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48"/>
          <p:cNvGrpSpPr/>
          <p:nvPr/>
        </p:nvGrpSpPr>
        <p:grpSpPr>
          <a:xfrm>
            <a:off x="5257800" y="1981080"/>
            <a:ext cx="3048120" cy="2170080"/>
            <a:chOff x="5257800" y="1981080"/>
            <a:chExt cx="3048120" cy="2170080"/>
          </a:xfrm>
        </p:grpSpPr>
        <p:pic>
          <p:nvPicPr>
            <p:cNvPr id="161" name="Picture 44" descr="spiral sculpture"/>
            <p:cNvPicPr/>
            <p:nvPr/>
          </p:nvPicPr>
          <p:blipFill>
            <a:blip r:embed="rId1"/>
            <a:stretch/>
          </p:blipFill>
          <p:spPr>
            <a:xfrm>
              <a:off x="5257800" y="1981080"/>
              <a:ext cx="144792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45" descr="sunflower"/>
            <p:cNvPicPr/>
            <p:nvPr/>
          </p:nvPicPr>
          <p:blipFill>
            <a:blip r:embed="rId2"/>
            <a:stretch/>
          </p:blipFill>
          <p:spPr>
            <a:xfrm>
              <a:off x="6858000" y="2057400"/>
              <a:ext cx="758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46" descr="mm-art-circles_of_life-site"/>
            <p:cNvPicPr/>
            <p:nvPr/>
          </p:nvPicPr>
          <p:blipFill>
            <a:blip r:embed="rId3"/>
            <a:srcRect l="2944" t="4569" r="8826" b="3532"/>
            <a:stretch/>
          </p:blipFill>
          <p:spPr>
            <a:xfrm>
              <a:off x="6858000" y="2895480"/>
              <a:ext cx="1447920" cy="125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04920" y="228600"/>
          <a:ext cx="8534160" cy="304920"/>
        </p:xfrm>
        <a:graphic>
          <a:graphicData uri="http://schemas.openxmlformats.org/drawingml/2006/table">
            <a:tbl>
              <a:tblPr/>
              <a:tblGrid>
                <a:gridCol w="2220840"/>
                <a:gridCol w="2046240"/>
                <a:gridCol w="2133720"/>
                <a:gridCol w="2133360"/>
              </a:tblGrid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14"/>
          <p:cNvSpPr/>
          <p:nvPr/>
        </p:nvSpPr>
        <p:spPr>
          <a:xfrm>
            <a:off x="609480" y="1600200"/>
            <a:ext cx="381024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ometry is both ancient and modern. Geometry originated as a systematic study in the works of Euclid, through its synthesis with the work of Rene Descartes, to its present connections with computer and calculator technology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" y="152388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410080" y="4800600"/>
            <a:ext cx="32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geometric objects do you se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29"/>
          <p:cNvGrpSpPr/>
          <p:nvPr/>
        </p:nvGrpSpPr>
        <p:grpSpPr>
          <a:xfrm>
            <a:off x="5410080" y="1676520"/>
            <a:ext cx="2871720" cy="2666880"/>
            <a:chOff x="5410080" y="1676520"/>
            <a:chExt cx="2871720" cy="2666880"/>
          </a:xfrm>
        </p:grpSpPr>
        <p:pic>
          <p:nvPicPr>
            <p:cNvPr id="171" name="Picture 22" descr="black&amp;whitefractal"/>
            <p:cNvPicPr/>
            <p:nvPr/>
          </p:nvPicPr>
          <p:blipFill>
            <a:blip r:embed="rId1"/>
            <a:stretch/>
          </p:blipFill>
          <p:spPr>
            <a:xfrm rot="5400000">
              <a:off x="6467400" y="1685880"/>
              <a:ext cx="106668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3" descr="1294,1144215634,1"/>
            <p:cNvPicPr/>
            <p:nvPr/>
          </p:nvPicPr>
          <p:blipFill>
            <a:blip r:embed="rId2"/>
            <a:srcRect l="9265" t="50321" r="3701" b="6924"/>
            <a:stretch/>
          </p:blipFill>
          <p:spPr>
            <a:xfrm rot="5400000">
              <a:off x="7036200" y="2259720"/>
              <a:ext cx="182880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4" descr="map2"/>
            <p:cNvPicPr/>
            <p:nvPr/>
          </p:nvPicPr>
          <p:blipFill>
            <a:blip r:embed="rId3"/>
            <a:stretch/>
          </p:blipFill>
          <p:spPr>
            <a:xfrm>
              <a:off x="5410080" y="2819520"/>
              <a:ext cx="217188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7" descr="Euclid"/>
            <p:cNvPicPr/>
            <p:nvPr/>
          </p:nvPicPr>
          <p:blipFill>
            <a:blip r:embed="rId4"/>
            <a:stretch/>
          </p:blipFill>
          <p:spPr>
            <a:xfrm>
              <a:off x="5715000" y="1676520"/>
              <a:ext cx="6746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8" descr="DESCARTES_G_290w_q30"/>
            <p:cNvPicPr/>
            <p:nvPr/>
          </p:nvPicPr>
          <p:blipFill>
            <a:blip r:embed="rId5"/>
            <a:stretch/>
          </p:blipFill>
          <p:spPr>
            <a:xfrm flipH="1">
              <a:off x="7619760" y="3505320"/>
              <a:ext cx="66204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304920" y="228600"/>
          <a:ext cx="8534160" cy="304920"/>
        </p:xfrm>
        <a:graphic>
          <a:graphicData uri="http://schemas.openxmlformats.org/drawingml/2006/table">
            <a:tbl>
              <a:tblPr/>
              <a:tblGrid>
                <a:gridCol w="2220840"/>
                <a:gridCol w="2046240"/>
                <a:gridCol w="2133720"/>
                <a:gridCol w="2133360"/>
              </a:tblGrid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533520" y="160020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basic terms and postulates of geometry will be introduced as well as the tools needed to explore geomet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457200" y="152388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410080" y="4800600"/>
            <a:ext cx="32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geometric objects do you se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2" descr="geo terms"/>
          <p:cNvPicPr/>
          <p:nvPr/>
        </p:nvPicPr>
        <p:blipFill>
          <a:blip r:embed="rId1"/>
          <a:stretch/>
        </p:blipFill>
        <p:spPr>
          <a:xfrm>
            <a:off x="5334120" y="2133720"/>
            <a:ext cx="3124080" cy="171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3" name="Rectangle 23"/>
          <p:cNvSpPr/>
          <p:nvPr/>
        </p:nvSpPr>
        <p:spPr>
          <a:xfrm>
            <a:off x="6028200" y="3886200"/>
            <a:ext cx="2370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http://agutie.homestead.com/files/index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80880" y="2514600"/>
          <a:ext cx="8458200" cy="609480"/>
        </p:xfrm>
        <a:graphic>
          <a:graphicData uri="http://schemas.openxmlformats.org/drawingml/2006/table">
            <a:tbl>
              <a:tblPr/>
              <a:tblGrid>
                <a:gridCol w="2511720"/>
                <a:gridCol w="2246040"/>
                <a:gridCol w="1982880"/>
                <a:gridCol w="171756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5" name="Text Box 59"/>
          <p:cNvSpPr/>
          <p:nvPr/>
        </p:nvSpPr>
        <p:spPr>
          <a:xfrm>
            <a:off x="2514600" y="3962520"/>
            <a:ext cx="4495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go back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st of Instructional Pag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09680" y="1295280"/>
          <a:ext cx="3962520" cy="4891320"/>
        </p:xfrm>
        <a:graphic>
          <a:graphicData uri="http://schemas.openxmlformats.org/drawingml/2006/table">
            <a:tbl>
              <a:tblPr/>
              <a:tblGrid>
                <a:gridCol w="2133720"/>
                <a:gridCol w="1828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4"/>
          <p:cNvSpPr/>
          <p:nvPr/>
        </p:nvSpPr>
        <p:spPr>
          <a:xfrm>
            <a:off x="533520" y="1673640"/>
            <a:ext cx="396216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 building blocks of geometry are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Verdana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bbe0e3"/>
                </a:solidFill>
                <a:uFillTx/>
                <a:latin typeface="Verdana"/>
              </a:rPr>
              <a:t>lines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plan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y are considered building blocks because they are basic and not defined in terms of other fig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 though the terms cannot be defined, they may be described and depicted with a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0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2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3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4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6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7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43"/>
          <p:cNvGrpSpPr/>
          <p:nvPr/>
        </p:nvGrpSpPr>
        <p:grpSpPr>
          <a:xfrm>
            <a:off x="5638320" y="1828800"/>
            <a:ext cx="2819880" cy="2438280"/>
            <a:chOff x="5638320" y="1828800"/>
            <a:chExt cx="2819880" cy="2438280"/>
          </a:xfrm>
        </p:grpSpPr>
        <p:pic>
          <p:nvPicPr>
            <p:cNvPr id="201" name="Picture 40" descr="pick up sticks"/>
            <p:cNvPicPr/>
            <p:nvPr/>
          </p:nvPicPr>
          <p:blipFill>
            <a:blip r:embed="rId3"/>
            <a:stretch/>
          </p:blipFill>
          <p:spPr>
            <a:xfrm rot="5400000">
              <a:off x="5935680" y="1608120"/>
              <a:ext cx="13111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41" descr="plane"/>
            <p:cNvPicPr/>
            <p:nvPr/>
          </p:nvPicPr>
          <p:blipFill>
            <a:blip r:embed="rId4"/>
            <a:stretch/>
          </p:blipFill>
          <p:spPr>
            <a:xfrm>
              <a:off x="6781680" y="2819520"/>
              <a:ext cx="167652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42" descr="new41w"/>
            <p:cNvPicPr/>
            <p:nvPr/>
          </p:nvPicPr>
          <p:blipFill>
            <a:blip r:embed="rId5"/>
            <a:stretch/>
          </p:blipFill>
          <p:spPr>
            <a:xfrm rot="5400000">
              <a:off x="5638320" y="304776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Rectangle 44"/>
          <p:cNvSpPr/>
          <p:nvPr/>
        </p:nvSpPr>
        <p:spPr>
          <a:xfrm>
            <a:off x="5181480" y="1066680"/>
            <a:ext cx="396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any-Sided World of Geometry, The, Program 1: Geometry Basics. Standard Deviants (2002). Retrieved July 12, 2006, from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unitedstreaming: http://www.unitedstreaming.com/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2282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91960" y="1968120"/>
            <a:ext cx="7785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030a0"/>
                </a:solidFill>
                <a:latin typeface="OCR A Extended"/>
              </a:rPr>
              <a:t>Expecatation</a:t>
            </a:r>
            <a:r>
              <a:rPr b="0" lang="en-US" sz="6000" spc="-1" strike="noStrike">
                <a:solidFill>
                  <a:srgbClr val="ffffff"/>
                </a:solidFill>
                <a:latin typeface="OCR A Extended"/>
              </a:rPr>
              <a:t> of MR. Kansakar</a:t>
            </a:r>
            <a:endParaRPr b="0" lang="en-US" sz="6000" spc="-1" strike="noStrike">
              <a:solidFill>
                <a:srgbClr val="ffffff"/>
              </a:solidFill>
              <a:latin typeface="OCR A Extende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Text Box 14"/>
          <p:cNvSpPr/>
          <p:nvPr/>
        </p:nvSpPr>
        <p:spPr>
          <a:xfrm>
            <a:off x="533520" y="1652040"/>
            <a:ext cx="380988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point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most basic building block of geo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oint  has no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oint indicates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ot represents or models a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oint is named with a capital l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6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342900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14"/>
          <p:cNvSpPr/>
          <p:nvPr/>
        </p:nvSpPr>
        <p:spPr>
          <a:xfrm>
            <a:off x="457200" y="1945080"/>
            <a:ext cx="403848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line</a:t>
            </a:r>
            <a:r>
              <a:rPr b="0" lang="en-US" sz="18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a straight, continuous arrangement of infinitely many </a:t>
            </a:r>
            <a:r>
              <a:rPr b="0" lang="en-US" sz="1800" spc="-1" strike="noStrike">
                <a:solidFill>
                  <a:srgbClr val="99cc00"/>
                </a:solidFill>
                <a:latin typeface="Verdana"/>
              </a:rPr>
              <a:t>poin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ine has infinite length but no thick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ine extends forever in two dire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ine may be named with two identified point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ine symbol (double-headed arrows) is placed over the letters naming the points on the 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ernatively, line may be named with a single, lower case let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25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342900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 Box 14"/>
          <p:cNvSpPr/>
          <p:nvPr/>
        </p:nvSpPr>
        <p:spPr>
          <a:xfrm>
            <a:off x="533520" y="1964520"/>
            <a:ext cx="403848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lane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s length and width but no thickn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lane is like a flat surface the extends infinitely along its length and wid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, click the Sketchpad logo to demonstrate this descri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lane is represented line extends with four-sided figure, like a tilted piece of paper, drawn in perspec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lane is named with a script capital letter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30"/>
          <p:cNvGrpSpPr/>
          <p:nvPr/>
        </p:nvGrpSpPr>
        <p:grpSpPr>
          <a:xfrm>
            <a:off x="5393160" y="1645560"/>
            <a:ext cx="3141360" cy="2607480"/>
            <a:chOff x="5393160" y="1645560"/>
            <a:chExt cx="3141360" cy="2607480"/>
          </a:xfrm>
        </p:grpSpPr>
        <p:pic>
          <p:nvPicPr>
            <p:cNvPr id="244" name="Picture 27" descr="pick up sticks"/>
            <p:cNvPicPr/>
            <p:nvPr/>
          </p:nvPicPr>
          <p:blipFill>
            <a:blip r:embed="rId3"/>
            <a:stretch/>
          </p:blipFill>
          <p:spPr>
            <a:xfrm rot="7117200">
              <a:off x="5482800" y="1968120"/>
              <a:ext cx="1322280" cy="98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8" descr=""/>
            <p:cNvPicPr/>
            <p:nvPr/>
          </p:nvPicPr>
          <p:blipFill>
            <a:blip r:embed="rId4"/>
            <a:stretch/>
          </p:blipFill>
          <p:spPr>
            <a:xfrm>
              <a:off x="7391520" y="3886200"/>
              <a:ext cx="1143000" cy="36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46" name="Picture 29" descr=""/>
            <p:cNvPicPr/>
            <p:nvPr/>
          </p:nvPicPr>
          <p:blipFill>
            <a:blip r:embed="rId5"/>
            <a:stretch/>
          </p:blipFill>
          <p:spPr>
            <a:xfrm>
              <a:off x="5791320" y="2057400"/>
              <a:ext cx="2590560" cy="1919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ext Box 14"/>
          <p:cNvSpPr/>
          <p:nvPr/>
        </p:nvSpPr>
        <p:spPr>
          <a:xfrm>
            <a:off x="533520" y="1679040"/>
            <a:ext cx="38098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figure at the right, the flat surface represents a portion of plan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pla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y also be named using three points that lie in the plane, such as G, F and E; please note that the three points are not on the sam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25" descr=""/>
          <p:cNvPicPr/>
          <p:nvPr/>
        </p:nvPicPr>
        <p:blipFill>
          <a:blip r:embed="rId3"/>
          <a:stretch/>
        </p:blipFill>
        <p:spPr>
          <a:xfrm>
            <a:off x="5105520" y="1676520"/>
            <a:ext cx="342900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Text Box 14"/>
          <p:cNvSpPr/>
          <p:nvPr/>
        </p:nvSpPr>
        <p:spPr>
          <a:xfrm>
            <a:off x="533520" y="2388600"/>
            <a:ext cx="41907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inear 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points that lie on the sam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figure at the right, A, B and C are collin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, B and D are noncollinear (not collin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Any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wo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points are colline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6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30" descr=""/>
          <p:cNvPicPr/>
          <p:nvPr/>
        </p:nvPicPr>
        <p:blipFill>
          <a:blip r:embed="rId3"/>
          <a:stretch/>
        </p:blipFill>
        <p:spPr>
          <a:xfrm>
            <a:off x="5029200" y="2209680"/>
            <a:ext cx="36385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Text Box 14"/>
          <p:cNvSpPr/>
          <p:nvPr/>
        </p:nvSpPr>
        <p:spPr>
          <a:xfrm>
            <a:off x="533520" y="1837800"/>
            <a:ext cx="411480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lanar 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points that lie in the sam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figure at the right, E, F, G, and H are copla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, F, G, and J are noncoplanar (not coplan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Any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ree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points are copla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7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26" descr=""/>
          <p:cNvPicPr/>
          <p:nvPr/>
        </p:nvPicPr>
        <p:blipFill>
          <a:blip r:embed="rId3"/>
          <a:stretch/>
        </p:blipFill>
        <p:spPr>
          <a:xfrm>
            <a:off x="5181480" y="1600200"/>
            <a:ext cx="3505320" cy="262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Text Box 14"/>
          <p:cNvSpPr/>
          <p:nvPr/>
        </p:nvSpPr>
        <p:spPr>
          <a:xfrm>
            <a:off x="609480" y="1295280"/>
            <a:ext cx="381024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the foundational terms (point, line and plane) described, other geometric figures may be defined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8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28"/>
          <p:cNvGrpSpPr/>
          <p:nvPr/>
        </p:nvGrpSpPr>
        <p:grpSpPr>
          <a:xfrm>
            <a:off x="5291280" y="1981080"/>
            <a:ext cx="3243240" cy="2195280"/>
            <a:chOff x="5291280" y="1981080"/>
            <a:chExt cx="3243240" cy="2195280"/>
          </a:xfrm>
        </p:grpSpPr>
        <p:sp>
          <p:nvSpPr>
            <p:cNvPr id="299" name="Text Box 19"/>
            <p:cNvSpPr/>
            <p:nvPr/>
          </p:nvSpPr>
          <p:spPr>
            <a:xfrm>
              <a:off x="5291280" y="3656160"/>
              <a:ext cx="324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Let no one ignorant of geometry enter my door.” - Pl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" name="Picture 26" descr="plato"/>
            <p:cNvPicPr/>
            <p:nvPr/>
          </p:nvPicPr>
          <p:blipFill>
            <a:blip r:embed="rId3"/>
            <a:stretch/>
          </p:blipFill>
          <p:spPr>
            <a:xfrm>
              <a:off x="6353280" y="1981080"/>
              <a:ext cx="1266840" cy="1524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14"/>
          <p:cNvSpPr/>
          <p:nvPr/>
        </p:nvSpPr>
        <p:spPr>
          <a:xfrm>
            <a:off x="609480" y="1600200"/>
            <a:ext cx="381024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g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part of a line that begins at one point and ends at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ints are called the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nd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seg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gment is named by its end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ar (no arrows) is drawn over the two capitalized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9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6" descr=""/>
          <p:cNvPicPr/>
          <p:nvPr/>
        </p:nvPicPr>
        <p:blipFill>
          <a:blip r:embed="rId3"/>
          <a:stretch/>
        </p:blipFill>
        <p:spPr>
          <a:xfrm>
            <a:off x="5334120" y="1905120"/>
            <a:ext cx="31240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Text Box 14"/>
          <p:cNvSpPr/>
          <p:nvPr/>
        </p:nvSpPr>
        <p:spPr>
          <a:xfrm>
            <a:off x="609480" y="1600200"/>
            <a:ext cx="396252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r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 of a line that starts at a point and extends infinitely in one dir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int is called the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ndpoi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ay is named its endpoint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ngle arrow (toward the infinite direction) is drawn over the two capitalized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0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26" descr=""/>
          <p:cNvPicPr/>
          <p:nvPr/>
        </p:nvPicPr>
        <p:blipFill>
          <a:blip r:embed="rId3"/>
          <a:stretch/>
        </p:blipFill>
        <p:spPr>
          <a:xfrm>
            <a:off x="5334120" y="1828800"/>
            <a:ext cx="31240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Text Box 14"/>
          <p:cNvSpPr/>
          <p:nvPr/>
        </p:nvSpPr>
        <p:spPr>
          <a:xfrm>
            <a:off x="609480" y="1676520"/>
            <a:ext cx="396252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ng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figure formed by two rays with a common end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mon endpoint is the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vertex of the ang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ys are the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ides of the ang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gles are formed when lines, rays, or line segments inters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1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6" descr=""/>
          <p:cNvPicPr/>
          <p:nvPr/>
        </p:nvPicPr>
        <p:blipFill>
          <a:blip r:embed="rId3"/>
          <a:stretch/>
        </p:blipFill>
        <p:spPr>
          <a:xfrm>
            <a:off x="5867280" y="1447920"/>
            <a:ext cx="2038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95360" y="1841040"/>
            <a:ext cx="7873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OCR A Extended"/>
              </a:rPr>
              <a:t>Rules</a:t>
            </a: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 of Mr. Kansakar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Text Box 14"/>
          <p:cNvSpPr/>
          <p:nvPr/>
        </p:nvSpPr>
        <p:spPr>
          <a:xfrm>
            <a:off x="609480" y="1828800"/>
            <a:ext cx="38102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ngle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vides the plane into two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wo points, one from each side of the angle, are connected with a segment, the segment passes through the interior of the 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2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7" descr=""/>
          <p:cNvPicPr/>
          <p:nvPr/>
        </p:nvPicPr>
        <p:blipFill>
          <a:blip r:embed="rId3"/>
          <a:stretch/>
        </p:blipFill>
        <p:spPr>
          <a:xfrm>
            <a:off x="5486400" y="1523880"/>
            <a:ext cx="254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Text Box 14"/>
          <p:cNvSpPr/>
          <p:nvPr/>
        </p:nvSpPr>
        <p:spPr>
          <a:xfrm>
            <a:off x="457200" y="1585800"/>
            <a:ext cx="411480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ngle is named using three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rtex must be the middle point of the n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RT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y “angle S R T” or “angle T R 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re is no possibility of confusion, the angle may be nam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3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29" descr=""/>
          <p:cNvPicPr/>
          <p:nvPr/>
        </p:nvPicPr>
        <p:blipFill>
          <a:blip r:embed="rId3"/>
          <a:stretch/>
        </p:blipFill>
        <p:spPr>
          <a:xfrm>
            <a:off x="5638680" y="1600200"/>
            <a:ext cx="2278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Text Box 14"/>
          <p:cNvSpPr/>
          <p:nvPr/>
        </p:nvSpPr>
        <p:spPr>
          <a:xfrm>
            <a:off x="685800" y="1752480"/>
            <a:ext cx="380988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geometric figures have one or more points in common, they are said to 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interse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et of points that they have in common is called their inters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4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26" descr=""/>
          <p:cNvPicPr/>
          <p:nvPr/>
        </p:nvPicPr>
        <p:blipFill>
          <a:blip r:embed="rId3"/>
          <a:stretch/>
        </p:blipFill>
        <p:spPr>
          <a:xfrm>
            <a:off x="5029200" y="2057400"/>
            <a:ext cx="37339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Text Box 14"/>
          <p:cNvSpPr/>
          <p:nvPr/>
        </p:nvSpPr>
        <p:spPr>
          <a:xfrm>
            <a:off x="457200" y="1600200"/>
            <a:ext cx="3962520" cy="56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xiomatic syst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et sta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atements are </a:t>
            </a: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axio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postulat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these statements are accepted without pro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statements in an axiomatic system include 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theore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theorems are truths that can be derived from postul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5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26" descr="sp-thinker"/>
          <p:cNvPicPr/>
          <p:nvPr/>
        </p:nvPicPr>
        <p:blipFill>
          <a:blip r:embed="rId3"/>
          <a:stretch/>
        </p:blipFill>
        <p:spPr>
          <a:xfrm>
            <a:off x="5410080" y="2057400"/>
            <a:ext cx="28958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Text Box 14"/>
          <p:cNvSpPr/>
          <p:nvPr/>
        </p:nvSpPr>
        <p:spPr>
          <a:xfrm>
            <a:off x="457200" y="1528920"/>
            <a:ext cx="4114800" cy="53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thematicians accepts undefined terms and definitions so that a consistent system may be buil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ke the pieces of a model that rest on others, the theorems of an axiomatic system rest on postulates and other theorem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system must be arranged logicall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5"/>
          <p:cNvSpPr/>
          <p:nvPr/>
        </p:nvSpPr>
        <p:spPr>
          <a:xfrm>
            <a:off x="457200" y="1447920"/>
            <a:ext cx="4191120" cy="495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6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26" descr="lego model"/>
          <p:cNvPicPr/>
          <p:nvPr/>
        </p:nvPicPr>
        <p:blipFill>
          <a:blip r:embed="rId3"/>
          <a:stretch/>
        </p:blipFill>
        <p:spPr>
          <a:xfrm>
            <a:off x="6019920" y="2209680"/>
            <a:ext cx="1600200" cy="11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14"/>
          <p:cNvSpPr/>
          <p:nvPr/>
        </p:nvSpPr>
        <p:spPr>
          <a:xfrm>
            <a:off x="533520" y="1600200"/>
            <a:ext cx="38098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with all axiomatic systems, geometry is connected with log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logic is typically expressed with convincing argument or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of may be used to demonstrate that things are not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7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26" descr="proof"/>
          <p:cNvPicPr/>
          <p:nvPr/>
        </p:nvPicPr>
        <p:blipFill>
          <a:blip r:embed="rId3"/>
          <a:stretch/>
        </p:blipFill>
        <p:spPr>
          <a:xfrm>
            <a:off x="5257800" y="2362320"/>
            <a:ext cx="3048120" cy="950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9" name="Text Box 14"/>
          <p:cNvSpPr/>
          <p:nvPr/>
        </p:nvSpPr>
        <p:spPr>
          <a:xfrm>
            <a:off x="457200" y="1600200"/>
            <a:ext cx="419112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ine the geometric model at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ally, identify the places where lines inter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The intersection of two lines is a 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8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6" descr="cube"/>
          <p:cNvPicPr/>
          <p:nvPr/>
        </p:nvPicPr>
        <p:blipFill>
          <a:blip r:embed="rId3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27"/>
          <p:cNvSpPr/>
          <p:nvPr/>
        </p:nvSpPr>
        <p:spPr>
          <a:xfrm>
            <a:off x="1828800" y="4800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Text Box 14"/>
          <p:cNvSpPr/>
          <p:nvPr/>
        </p:nvSpPr>
        <p:spPr>
          <a:xfrm>
            <a:off x="533520" y="1600200"/>
            <a:ext cx="4114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the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ally, identify the places in the diagram where planes inter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The intersection of two planes is a 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9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 action="ppaction://hlinksldjump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25" descr="cube"/>
          <p:cNvPicPr/>
          <p:nvPr/>
        </p:nvPicPr>
        <p:blipFill>
          <a:blip r:embed="rId3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26"/>
          <p:cNvSpPr/>
          <p:nvPr/>
        </p:nvSpPr>
        <p:spPr>
          <a:xfrm>
            <a:off x="1981080" y="4800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Text Box 14"/>
          <p:cNvSpPr/>
          <p:nvPr/>
        </p:nvSpPr>
        <p:spPr>
          <a:xfrm>
            <a:off x="685800" y="1523880"/>
            <a:ext cx="3809880" cy="51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the model. Look at points A and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any lines pass through these two poi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Through any two points there is exactly one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457200" y="1371600"/>
            <a:ext cx="4191120" cy="5029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8"/>
          <p:cNvSpPr/>
          <p:nvPr/>
        </p:nvSpPr>
        <p:spPr>
          <a:xfrm>
            <a:off x="5105520" y="1371600"/>
            <a:ext cx="3581280" cy="3048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2"/>
          <p:cNvSpPr/>
          <p:nvPr/>
        </p:nvSpPr>
        <p:spPr>
          <a:xfrm>
            <a:off x="5479920" y="55627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4"/>
          <p:cNvSpPr/>
          <p:nvPr/>
        </p:nvSpPr>
        <p:spPr>
          <a:xfrm>
            <a:off x="7391520" y="5562720"/>
            <a:ext cx="32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25" descr="cube"/>
          <p:cNvPicPr/>
          <p:nvPr/>
        </p:nvPicPr>
        <p:blipFill>
          <a:blip r:embed="rId1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26"/>
          <p:cNvSpPr/>
          <p:nvPr/>
        </p:nvSpPr>
        <p:spPr>
          <a:xfrm>
            <a:off x="2209680" y="5562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1" name="Text Box 14"/>
          <p:cNvSpPr/>
          <p:nvPr/>
        </p:nvSpPr>
        <p:spPr>
          <a:xfrm>
            <a:off x="457200" y="1676520"/>
            <a:ext cx="426708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the model. Look at points A, E and 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any planes pass through these three noncollinear poi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00"/>
                </a:solidFill>
                <a:latin typeface="Verdana"/>
              </a:rPr>
              <a:t>Through any three noncollinear points there is exactly one 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1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2"/>
          <p:cNvSpPr/>
          <p:nvPr/>
        </p:nvSpPr>
        <p:spPr>
          <a:xfrm>
            <a:off x="5479920" y="55627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4"/>
          <p:cNvSpPr/>
          <p:nvPr/>
        </p:nvSpPr>
        <p:spPr>
          <a:xfrm>
            <a:off x="7391520" y="5562720"/>
            <a:ext cx="32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5" descr="cube"/>
          <p:cNvPicPr/>
          <p:nvPr/>
        </p:nvPicPr>
        <p:blipFill>
          <a:blip r:embed="rId1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26"/>
          <p:cNvSpPr/>
          <p:nvPr/>
        </p:nvSpPr>
        <p:spPr>
          <a:xfrm>
            <a:off x="175248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OCR A Extended"/>
              </a:rPr>
              <a:t>Consequences</a:t>
            </a: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 of Mr. Kansakar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Text Box 14"/>
          <p:cNvSpPr/>
          <p:nvPr/>
        </p:nvSpPr>
        <p:spPr>
          <a:xfrm>
            <a:off x="457200" y="1600200"/>
            <a:ext cx="419112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k any plane in the illustration; pick two points that are in the plane. Name the line that pa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line in the plane you se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If two points are in a plane, then the line containing them  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2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22"/>
          <p:cNvSpPr/>
          <p:nvPr/>
        </p:nvSpPr>
        <p:spPr>
          <a:xfrm>
            <a:off x="5479920" y="55627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4"/>
          <p:cNvSpPr/>
          <p:nvPr/>
        </p:nvSpPr>
        <p:spPr>
          <a:xfrm>
            <a:off x="7391520" y="5562720"/>
            <a:ext cx="32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25" descr="cube"/>
          <p:cNvPicPr/>
          <p:nvPr/>
        </p:nvPicPr>
        <p:blipFill>
          <a:blip r:embed="rId1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26"/>
          <p:cNvSpPr/>
          <p:nvPr/>
        </p:nvSpPr>
        <p:spPr>
          <a:xfrm>
            <a:off x="990720" y="57452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is in th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38"/>
          <p:cNvSpPr/>
          <p:nvPr/>
        </p:nvSpPr>
        <p:spPr>
          <a:xfrm>
            <a:off x="2666880" y="41148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go back 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217440" y="3124080"/>
          <a:ext cx="8621640" cy="533520"/>
        </p:xfrm>
        <a:graphic>
          <a:graphicData uri="http://schemas.openxmlformats.org/drawingml/2006/table">
            <a:tbl>
              <a:tblPr/>
              <a:tblGrid>
                <a:gridCol w="2559240"/>
                <a:gridCol w="2290680"/>
                <a:gridCol w="2020680"/>
                <a:gridCol w="175104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228600" y="228600"/>
          <a:ext cx="8686800" cy="457200"/>
        </p:xfrm>
        <a:graphic>
          <a:graphicData uri="http://schemas.openxmlformats.org/drawingml/2006/table">
            <a:tbl>
              <a:tblPr/>
              <a:tblGrid>
                <a:gridCol w="2127240"/>
                <a:gridCol w="2216160"/>
                <a:gridCol w="2171880"/>
                <a:gridCol w="217152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Text Box 22"/>
          <p:cNvSpPr/>
          <p:nvPr/>
        </p:nvSpPr>
        <p:spPr>
          <a:xfrm>
            <a:off x="5334120" y="495288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09480" y="1600200"/>
            <a:ext cx="3810240" cy="26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you answer questions 1-8  and 12-1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7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8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31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33" descr="dmbtest"/>
          <p:cNvPicPr/>
          <p:nvPr/>
        </p:nvPicPr>
        <p:blipFill>
          <a:blip r:embed="rId1"/>
          <a:stretch/>
        </p:blipFill>
        <p:spPr>
          <a:xfrm>
            <a:off x="5943600" y="1828800"/>
            <a:ext cx="190512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38"/>
          <p:cNvSpPr/>
          <p:nvPr/>
        </p:nvSpPr>
        <p:spPr>
          <a:xfrm>
            <a:off x="2666880" y="41148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go back 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17440" y="3124080"/>
          <a:ext cx="8540640" cy="68580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"/>
          <p:cNvGraphicFramePr/>
          <p:nvPr/>
        </p:nvGraphicFramePr>
        <p:xfrm>
          <a:off x="228600" y="228600"/>
          <a:ext cx="8686800" cy="45720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500" name="Text Box 23"/>
          <p:cNvSpPr/>
          <p:nvPr/>
        </p:nvSpPr>
        <p:spPr>
          <a:xfrm>
            <a:off x="533520" y="1752480"/>
            <a:ext cx="380988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my.hrw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lt On-line &amp; Homework help Lesson 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4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5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5334120" y="4876920"/>
            <a:ext cx="32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geometric objects do you se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28"/>
          <p:cNvSpPr/>
          <p:nvPr/>
        </p:nvSpPr>
        <p:spPr>
          <a:xfrm>
            <a:off x="5105520" y="1600200"/>
            <a:ext cx="3657600" cy="281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0" descr="hello"/>
          <p:cNvPicPr/>
          <p:nvPr/>
        </p:nvPicPr>
        <p:blipFill>
          <a:blip r:embed="rId1"/>
          <a:stretch/>
        </p:blipFill>
        <p:spPr>
          <a:xfrm>
            <a:off x="6019920" y="1828800"/>
            <a:ext cx="2022480" cy="22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0"/>
          <p:cNvSpPr/>
          <p:nvPr/>
        </p:nvSpPr>
        <p:spPr>
          <a:xfrm>
            <a:off x="2666880" y="41148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go back 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17440" y="3124080"/>
          <a:ext cx="8540640" cy="60984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5334120" y="228600"/>
            <a:ext cx="357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Verdana"/>
              </a:rPr>
              <a:t>Example 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4038480" y="1447920"/>
            <a:ext cx="4267440" cy="495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57200" y="304920"/>
            <a:ext cx="20574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k to m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98800" cy="335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12" name="Text Box 8"/>
          <p:cNvSpPr/>
          <p:nvPr/>
        </p:nvSpPr>
        <p:spPr>
          <a:xfrm>
            <a:off x="4191120" y="1371600"/>
            <a:ext cx="4114800" cy="49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the intersection of plane ABDC and plane YZ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lines in the figure contain point 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planes in the figure contain line B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ue or false: Two planes intersect in exactly one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5257800" y="21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line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343400" y="3276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wo – line DZ and 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4114800" y="4495680"/>
            <a:ext cx="43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Verdana"/>
              </a:rPr>
              <a:t>plane BAXY and plane YZD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3"/>
          <p:cNvSpPr/>
          <p:nvPr/>
        </p:nvSpPr>
        <p:spPr>
          <a:xfrm>
            <a:off x="4876920" y="5715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alse -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7234560" y="4114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6"/>
          <p:cNvSpPr/>
          <p:nvPr/>
        </p:nvSpPr>
        <p:spPr>
          <a:xfrm>
            <a:off x="2590920" y="2286000"/>
            <a:ext cx="0" cy="297180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7"/>
          <p:cNvSpPr/>
          <p:nvPr/>
        </p:nvSpPr>
        <p:spPr>
          <a:xfrm flipH="1" flipV="1" rot="18617400">
            <a:off x="2036160" y="3221640"/>
            <a:ext cx="1385640" cy="896760"/>
          </a:xfrm>
          <a:prstGeom prst="parallelogram">
            <a:avLst>
              <a:gd name="adj" fmla="val 113240"/>
            </a:avLst>
          </a:prstGeom>
          <a:solidFill>
            <a:srgbClr val="cc00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1219320" y="3251160"/>
            <a:ext cx="1320840" cy="1320840"/>
          </a:xfrm>
          <a:prstGeom prst="rect">
            <a:avLst/>
          </a:prstGeom>
          <a:solidFill>
            <a:srgbClr val="cc00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19"/>
          <p:cNvSpPr/>
          <p:nvPr/>
        </p:nvSpPr>
        <p:spPr>
          <a:xfrm>
            <a:off x="2743200" y="4076640"/>
            <a:ext cx="216000" cy="216000"/>
          </a:xfrm>
          <a:prstGeom prst="ellipse">
            <a:avLst/>
          </a:prstGeom>
          <a:solidFill>
            <a:srgbClr val="cc00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20"/>
          <p:cNvSpPr/>
          <p:nvPr/>
        </p:nvSpPr>
        <p:spPr>
          <a:xfrm flipV="1">
            <a:off x="1994040" y="3517920"/>
            <a:ext cx="1422360" cy="172728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21"/>
          <p:cNvSpPr/>
          <p:nvPr/>
        </p:nvSpPr>
        <p:spPr>
          <a:xfrm>
            <a:off x="2844720" y="2298600"/>
            <a:ext cx="12960" cy="281952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22"/>
          <p:cNvSpPr/>
          <p:nvPr/>
        </p:nvSpPr>
        <p:spPr>
          <a:xfrm flipV="1">
            <a:off x="2217960" y="2222640"/>
            <a:ext cx="1037880" cy="146016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1143000" y="2768760"/>
            <a:ext cx="1714680" cy="469800"/>
          </a:xfrm>
          <a:prstGeom prst="parallelogram">
            <a:avLst>
              <a:gd name="adj" fmla="val 92985"/>
            </a:avLst>
          </a:prstGeom>
          <a:solidFill>
            <a:srgbClr val="cc00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2000" fill="hold"/>
                                        <p:tgtEl>
                                          <p:spTgt spid="5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2000" fill="hold"/>
                                        <p:tgtEl>
                                          <p:spTgt spid="5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3"/>
          <p:cNvSpPr/>
          <p:nvPr/>
        </p:nvSpPr>
        <p:spPr>
          <a:xfrm>
            <a:off x="5334120" y="228600"/>
            <a:ext cx="357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Verdana"/>
              </a:rPr>
              <a:t>Example 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4114800" y="1447920"/>
            <a:ext cx="4191120" cy="70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Classify each statement as 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true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or 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false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lines intersect in a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lines are contained in exactly on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three points are contained in exactly on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4038480" y="1447920"/>
            <a:ext cx="4267440" cy="495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457200" y="304920"/>
            <a:ext cx="20574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k to m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525780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alse -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4114800" y="4038480"/>
            <a:ext cx="457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Verdana"/>
              </a:rPr>
              <a:t>False – could be skew lin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4038480" y="5653080"/>
            <a:ext cx="4648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Verdana"/>
              </a:rPr>
              <a:t>False – only collinear poi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0"/>
          <p:cNvSpPr/>
          <p:nvPr/>
        </p:nvSpPr>
        <p:spPr>
          <a:xfrm>
            <a:off x="2666880" y="41148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go back 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217440" y="3124080"/>
          <a:ext cx="8540640" cy="60984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82680" y="2361960"/>
            <a:ext cx="6019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OCR A Extended"/>
              </a:rPr>
              <a:t>Tardy Wars</a:t>
            </a:r>
            <a:endParaRPr b="0" lang="en-US" sz="72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396800" y="1942920"/>
            <a:ext cx="6019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OCR A Extended"/>
              </a:rPr>
              <a:t>Do First </a:t>
            </a:r>
            <a:r>
              <a:rPr b="0" lang="en-US" sz="8800" spc="-1" strike="noStrike">
                <a:solidFill>
                  <a:srgbClr val="ff0000"/>
                </a:solidFill>
                <a:latin typeface="OCR A Extended"/>
              </a:rPr>
              <a:t>Battle</a:t>
            </a:r>
            <a:endParaRPr b="0" lang="en-US" sz="88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6200" y="685800"/>
            <a:ext cx="74041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OCR A Extended"/>
              </a:rPr>
              <a:t>All I do is </a:t>
            </a:r>
            <a:r>
              <a:rPr b="0" lang="en-US" sz="7200" spc="-1" strike="noStrike">
                <a:solidFill>
                  <a:srgbClr val="92d050"/>
                </a:solidFill>
                <a:latin typeface="OCR A Extended"/>
              </a:rPr>
              <a:t>Win</a:t>
            </a:r>
            <a:r>
              <a:rPr b="0" lang="en-US" sz="7200" spc="-1" strike="noStrike">
                <a:solidFill>
                  <a:srgbClr val="ffffff"/>
                </a:solidFill>
                <a:latin typeface="OCR A Extended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OCR A Extende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0a0"/>
                </a:solidFill>
                <a:latin typeface="OCR A Extended"/>
              </a:rPr>
              <a:t>Win</a:t>
            </a:r>
            <a:r>
              <a:rPr b="0" lang="en-US" sz="7200" spc="-1" strike="noStrike">
                <a:solidFill>
                  <a:srgbClr val="ffffff"/>
                </a:solidFill>
                <a:latin typeface="OCR A Extended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OCR A Extende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OCR A Extended"/>
              </a:rPr>
              <a:t>Win</a:t>
            </a:r>
            <a:endParaRPr b="0" lang="en-US" sz="72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74360" y="1802880"/>
            <a:ext cx="7302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Individual Tracker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74720" y="1231920"/>
            <a:ext cx="73152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OCR A Extended"/>
              </a:rPr>
              <a:t>Procedures</a:t>
            </a: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 of 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Mr. Kansakar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5:14:29Z</dcterms:created>
  <dc:creator>Localuser</dc:creator>
  <dc:description/>
  <dc:language>en-US</dc:language>
  <cp:lastModifiedBy>Kansakar</cp:lastModifiedBy>
  <dcterms:modified xsi:type="dcterms:W3CDTF">2010-08-22T14:58:07Z</dcterms:modified>
  <cp:revision>62</cp:revision>
  <dc:subject/>
  <dc:title>Binary Presentation</dc:title>
</cp:coreProperties>
</file>