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1DC9-E7AA-45E2-83DF-2E33EB18A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FD98-7D7C-4248-9B8B-7A4D2E3EF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8C46-69A5-4128-BFBA-D8861ABC7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6C84-4DAC-461A-A6F0-E6B06981F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A7CF-0F86-4CC1-93D7-5C9042A0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3B93-85E9-44CB-8DA4-10F44EF66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D2B-24E9-4655-9561-86F5F3A09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F5E4-77BC-4BCE-AD68-5D4AEF592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DEBA-55E1-412C-A9E9-16982A71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1DF0-C434-42EF-813C-3FBC7507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DC5A-4180-40D1-A475-23E9CECD5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10DC-D510-4594-8C82-AF4670EF3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4761-D872-4EFB-8705-3ED277B51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A55-42BF-45D1-A835-CC1DBB7D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396-5305-4DFA-B585-5FB95A13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5A8-C18D-4139-8030-948CE843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D67-12E2-4886-A363-6072E10B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61E-EC80-4A15-B28F-835E3D09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ABB-ACEC-4292-ABE6-95CB46E3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C36-257B-4652-804C-6E65F0D6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5E5-43DE-4916-A3B0-E13CC2F9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1BF-9FDF-4C26-87A1-725A1A31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CA1-985C-4D38-A2A0-0553FDF9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A34-05F2-4C85-B8BF-A0E2499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059-F6CF-45A0-A42C-2CC6830C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BA9C-6500-43F6-8393-D66B53317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276120" y="25704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5"/>
          <a:stretch/>
        </p:blipFill>
        <p:spPr>
          <a:xfrm>
            <a:off x="2971800" y="3048120"/>
            <a:ext cx="4419720" cy="27478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ment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0,1,2,5} is the replacement set for inputs for  f(x)=2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eplacement set for outpu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 is not constant but is changing at a constan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linear, quadratic or nei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5791320" y="1981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8580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2004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12408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791320" y="4267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T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MEMORY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RESET 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A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lot points on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Data into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 Stat Plot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or Zoom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4 for linear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67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37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8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dratic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5 for quadratic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108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109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130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148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170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171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205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241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261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262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4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277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300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HISD</cp:lastModifiedBy>
  <dcterms:modified xsi:type="dcterms:W3CDTF">2010-10-20T12:47:02Z</dcterms:modified>
  <cp:revision>521</cp:revision>
  <dc:subject/>
  <dc:title>PowerPoint Presentation</dc:title>
</cp:coreProperties>
</file>