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1BE-2306-4620-A8B0-F1AA737CE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CE50-0C05-4821-A089-B1DA459DB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0FF2-E786-482C-9224-FA37D711E2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7DE7-CB32-45E9-B4D9-40F5409D9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3E5C-771F-4BAD-9913-63D477205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C9F9-7706-4046-AED4-61326151D7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8B04-2539-4533-B7AA-3D21E55BD4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D87F-5E75-48AC-934F-7A9A23746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330D-3588-46C5-8554-2BF25ECFB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7130-FE1B-4D4A-860B-8BC0F35820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3E7A-1C83-4310-A554-1A1C97267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94E-BD1B-46BB-B807-4BAC8436A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5F14D-861E-48C4-B909-37F9B93DBC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5A3-7ED2-45CC-81FE-575CF1A7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852E-F728-4515-A789-08BB1A83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36A8-AC70-49A4-83EA-ED528694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912C-9F84-4142-A44E-0A163971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A85C-58A3-49C2-8C5D-E33FCEF04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144-8A80-443B-8BE6-4C8947895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449C-0F60-4309-AF4B-F713EF81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2B5A-C227-4007-B2D1-9E2102AB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D1CA-8B8A-4D3E-AAE8-EAA4EF8A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AFA-6E65-4D7D-B587-A3EB890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02E-BB47-444C-A18B-CA8C44C5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6C5-134D-4E1E-B12B-2545D94F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6098-2B05-467F-BAD2-E60F8E046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76120" y="2570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5"/>
          <a:stretch/>
        </p:blipFill>
        <p:spPr>
          <a:xfrm>
            <a:off x="2971800" y="3048120"/>
            <a:ext cx="4419720" cy="274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men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,2,5} is the replacement set for inputs for  f(x)=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placement set for outpu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 is not constant but is changing at a consta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linear, quadratic or nei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791320" y="1981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580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004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12408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791320" y="4267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T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MEMORY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RESET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A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lot points on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ata int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Stat Plo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or Zoom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4 for linear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67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5 for quadra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108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130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148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170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171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205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241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261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262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277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300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HISD</cp:lastModifiedBy>
  <dcterms:modified xsi:type="dcterms:W3CDTF">2010-10-20T12:47:02Z</dcterms:modified>
  <cp:revision>521</cp:revision>
  <dc:subject/>
  <dc:title>PowerPoint Presentation</dc:title>
</cp:coreProperties>
</file>