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31CB-E55A-40B7-9D74-3F2C855AC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2DB5-6CCD-44EB-A95A-15A5CA2DA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E117-3BA9-45B4-B9DF-4E356F7E5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B02E-BCC0-4050-9651-C61F1E68B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9F7D-648B-4E81-883E-977A8378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85803-8E04-4761-9F9E-0F1E318CD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7AFC-32D4-4E4B-B1D1-A68986F8A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7C0B-6EF2-4329-B151-280ECB8D9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53B4C-F1E1-40F8-967E-0C77DBA6D0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95BD-D5F3-4337-917D-DB038170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8F89-6397-49B1-ADB1-BCF4E5B4F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411B-3BA8-483F-BD33-8CB9A1A8E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8E3F-77B6-4DBF-B970-A5991D604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787-F4C5-4EF9-8198-C8182C28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814-AFF8-4807-9056-17084B1E9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F1F4-8258-4D18-B358-EFCF0DC6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64C-A250-4959-9B8D-A76B11CA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AB0-44A8-4CE7-AFB2-3713ABB2D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D509-33F3-4EB5-80CC-2CC9BEFD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63BC-3156-4F96-8435-AF75A133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E905-EE3E-4336-9611-32B79A39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95CC-0A2B-46BB-B79A-64159F122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F74-2592-46F7-9ACD-D50DA696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372-9291-4D83-8BA4-4A6E186F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EE0-CF1F-47EE-9696-68B3179E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40A6-6A48-4CCD-891E-078732250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276120" y="25704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5"/>
          <a:stretch/>
        </p:blipFill>
        <p:spPr>
          <a:xfrm>
            <a:off x="2971800" y="3048120"/>
            <a:ext cx="4419720" cy="27478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ment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0,1,2,5} is the replacement set for inputs for  f(x)=2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eplacement set for outpu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 is not constant but is changing at a constan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linear, quadratic or nei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5791320" y="1981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8580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2004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12408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791320" y="4267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T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MEMORY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RESET 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A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lot points on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Data into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 Stat Plot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or Zoom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4 for linear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67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37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8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dratic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5 for quadratic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108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109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130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148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170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171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205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241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261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262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4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277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300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HISD</cp:lastModifiedBy>
  <dcterms:modified xsi:type="dcterms:W3CDTF">2010-10-20T12:47:02Z</dcterms:modified>
  <cp:revision>521</cp:revision>
  <dc:subject/>
  <dc:title>PowerPoint Presentation</dc:title>
</cp:coreProperties>
</file>