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DA2-544D-43B4-B3ED-540DC72E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2C6-FD48-47BC-B996-C78E01B6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847-25B4-4398-A03C-791220CC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21B-5694-4B0F-A351-809A9FEA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2CE-A018-439E-8612-C63C78F5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93D-F19D-481B-B104-8BB6A504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7FB-DAC4-4AC1-B25E-D369EDD2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43D-9718-4FAA-B807-B9CEEFA4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77E-5578-469E-8236-F0EC13F6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C9B-909A-4878-8208-C8DD4E74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75C-D57A-47F4-BB1A-11ADBD8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809-21D9-4C44-89F6-7AA1ED0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E387-8AD3-42DD-81F0-E66419C9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9"/>
          <p:cNvSpPr/>
          <p:nvPr/>
        </p:nvSpPr>
        <p:spPr>
          <a:xfrm>
            <a:off x="485640" y="1009800"/>
            <a:ext cx="198144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65214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214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1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3"/>
          <p:cNvSpPr/>
          <p:nvPr/>
        </p:nvSpPr>
        <p:spPr>
          <a:xfrm>
            <a:off x="490680" y="1771560"/>
            <a:ext cx="78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dealership so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w c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cars this year. The number of new cars sold by the dealership has been in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The number of used cars sold by the dealership has been de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If these trends continue, in how many years will the number of new cars sold be twice the number of used cars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6"/>
          <p:cNvSpPr/>
          <p:nvPr/>
        </p:nvSpPr>
        <p:spPr>
          <a:xfrm>
            <a:off x="477360" y="1019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1744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5"/>
          <a:stretch/>
        </p:blipFill>
        <p:spPr>
          <a:xfrm>
            <a:off x="990720" y="364968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1"/>
          <p:cNvGrpSpPr/>
          <p:nvPr/>
        </p:nvGrpSpPr>
        <p:grpSpPr>
          <a:xfrm>
            <a:off x="1295280" y="5029200"/>
            <a:ext cx="6782040" cy="483480"/>
            <a:chOff x="1295280" y="5029200"/>
            <a:chExt cx="6782040" cy="483480"/>
          </a:xfrm>
        </p:grpSpPr>
        <p:sp>
          <p:nvSpPr>
            <p:cNvPr id="61" name="Text Box 34"/>
            <p:cNvSpPr/>
            <p:nvPr/>
          </p:nvSpPr>
          <p:spPr>
            <a:xfrm>
              <a:off x="51055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12952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218124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09564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4114800" y="5052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5"/>
            <p:cNvSpPr/>
            <p:nvPr/>
          </p:nvSpPr>
          <p:spPr>
            <a:xfrm>
              <a:off x="592920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6662880" y="5029200"/>
              <a:ext cx="10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 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7848720" y="5033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98680" y="14032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37560" y="21193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48920" y="283356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120320" y="35989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1477440" y="43038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50511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5013000" y="4349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87" name="Rectangle 37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8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480600" y="14097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474120" y="17668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a table to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514600"/>
          <a:ext cx="6967440" cy="1447920"/>
        </p:xfrm>
        <a:graphic>
          <a:graphicData uri="http://schemas.openxmlformats.org/drawingml/2006/table">
            <a:tbl>
              <a:tblPr/>
              <a:tblGrid>
                <a:gridCol w="2395440"/>
                <a:gridCol w="914400"/>
                <a:gridCol w="914400"/>
                <a:gridCol w="914400"/>
                <a:gridCol w="9144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76280" y="1143000"/>
            <a:ext cx="7448400" cy="1557000"/>
            <a:chOff x="476280" y="1143000"/>
            <a:chExt cx="7448400" cy="1557000"/>
          </a:xfrm>
        </p:grpSpPr>
        <p:sp>
          <p:nvSpPr>
            <p:cNvPr id="106" name="Rectangle 18"/>
            <p:cNvSpPr/>
            <p:nvPr/>
          </p:nvSpPr>
          <p:spPr>
            <a:xfrm>
              <a:off x="476280" y="114300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1066680" y="114300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uppose the car dealership s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new cars this year instea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In how many years will the number of new cars sold be twice the number of used cars sol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477360" y="10904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457200" y="1816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1" descr=""/>
          <p:cNvPicPr/>
          <p:nvPr/>
        </p:nvPicPr>
        <p:blipFill>
          <a:blip r:embed="rId5"/>
          <a:stretch/>
        </p:blipFill>
        <p:spPr>
          <a:xfrm>
            <a:off x="990720" y="372096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2"/>
          <p:cNvGrpSpPr/>
          <p:nvPr/>
        </p:nvGrpSpPr>
        <p:grpSpPr>
          <a:xfrm>
            <a:off x="1295280" y="5100480"/>
            <a:ext cx="6782040" cy="483840"/>
            <a:chOff x="1295280" y="5100480"/>
            <a:chExt cx="6782040" cy="483840"/>
          </a:xfrm>
        </p:grpSpPr>
        <p:sp>
          <p:nvSpPr>
            <p:cNvPr id="118" name="Text Box 23"/>
            <p:cNvSpPr/>
            <p:nvPr/>
          </p:nvSpPr>
          <p:spPr>
            <a:xfrm>
              <a:off x="5105520" y="5100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1295280" y="5100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218124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3095640" y="510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4114800" y="512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92920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662880" y="5100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7848720" y="5105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80320" y="21160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20480" y="283068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077480" y="35956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1406160" y="430056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0367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5013000" y="43498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142" name="Rectangle 28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Rectangle 30"/>
          <p:cNvSpPr/>
          <p:nvPr/>
        </p:nvSpPr>
        <p:spPr>
          <a:xfrm>
            <a:off x="597600" y="140004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24:07Z</dcterms:modified>
  <cp:revision>326</cp:revision>
  <dc:subject/>
  <dc:title>PowerPoint Presentation</dc:title>
</cp:coreProperties>
</file>