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89C1-8FE5-4C03-8C05-C0BEDF1D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0B8C-10EF-4483-B21C-ABAD9ECD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D3B-8489-48C3-9EEA-887450FD2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79A2-2266-4AAA-9844-6E1C5F2FA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BB77-A8A9-44BC-83A6-C100D571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2C6-5A9D-4732-871F-681C78805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B99B-AFE9-4A3E-B966-C0AF7E7B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397-8183-40C5-98C3-0A770CED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49B2-86F4-4967-A027-E07C1986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A520-DAA3-4D2C-AB44-FDD1D9FF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9B02-1BE0-4A39-891E-A582681A5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90D3-E369-4B3B-ABA0-76C45CF5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4B7C-C34A-4F81-8FB1-8CEA0F6FD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9"/>
          <p:cNvSpPr/>
          <p:nvPr/>
        </p:nvSpPr>
        <p:spPr>
          <a:xfrm>
            <a:off x="485640" y="1009800"/>
            <a:ext cx="198144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0" y="65214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214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1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3"/>
          <p:cNvSpPr/>
          <p:nvPr/>
        </p:nvSpPr>
        <p:spPr>
          <a:xfrm>
            <a:off x="490680" y="1771560"/>
            <a:ext cx="782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dealership so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w c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d cars this year. The number of new cars sold by the dealership has been in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The number of used cars sold by the dealership has been de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If these trends continue, in how many years will the number of new cars sold be twice the number of used cars s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6"/>
          <p:cNvSpPr/>
          <p:nvPr/>
        </p:nvSpPr>
        <p:spPr>
          <a:xfrm>
            <a:off x="477360" y="10191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457200" y="1744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9" descr=""/>
          <p:cNvPicPr/>
          <p:nvPr/>
        </p:nvPicPr>
        <p:blipFill>
          <a:blip r:embed="rId5"/>
          <a:stretch/>
        </p:blipFill>
        <p:spPr>
          <a:xfrm>
            <a:off x="990720" y="364968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1"/>
          <p:cNvGrpSpPr/>
          <p:nvPr/>
        </p:nvGrpSpPr>
        <p:grpSpPr>
          <a:xfrm>
            <a:off x="1295280" y="5029200"/>
            <a:ext cx="6782040" cy="483480"/>
            <a:chOff x="1295280" y="5029200"/>
            <a:chExt cx="6782040" cy="483480"/>
          </a:xfrm>
        </p:grpSpPr>
        <p:sp>
          <p:nvSpPr>
            <p:cNvPr id="61" name="Text Box 34"/>
            <p:cNvSpPr/>
            <p:nvPr/>
          </p:nvSpPr>
          <p:spPr>
            <a:xfrm>
              <a:off x="510552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129528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31"/>
            <p:cNvSpPr/>
            <p:nvPr/>
          </p:nvSpPr>
          <p:spPr>
            <a:xfrm>
              <a:off x="218124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309564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33"/>
            <p:cNvSpPr/>
            <p:nvPr/>
          </p:nvSpPr>
          <p:spPr>
            <a:xfrm>
              <a:off x="4114800" y="5052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35"/>
            <p:cNvSpPr/>
            <p:nvPr/>
          </p:nvSpPr>
          <p:spPr>
            <a:xfrm>
              <a:off x="592920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6662880" y="5029200"/>
              <a:ext cx="10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 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7"/>
            <p:cNvSpPr/>
            <p:nvPr/>
          </p:nvSpPr>
          <p:spPr>
            <a:xfrm>
              <a:off x="7848720" y="50338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598680" y="140328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637560" y="211932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448920" y="283356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1120320" y="35989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1477440" y="43038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50511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5013000" y="4349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0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87" name="Rectangle 37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8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480600" y="14097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474120" y="176688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a table to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2514600"/>
          <a:ext cx="6967440" cy="1447920"/>
        </p:xfrm>
        <a:graphic>
          <a:graphicData uri="http://schemas.openxmlformats.org/drawingml/2006/table">
            <a:tbl>
              <a:tblPr/>
              <a:tblGrid>
                <a:gridCol w="2395440"/>
                <a:gridCol w="914400"/>
                <a:gridCol w="914400"/>
                <a:gridCol w="914400"/>
                <a:gridCol w="91440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22"/>
          <p:cNvGrpSpPr/>
          <p:nvPr/>
        </p:nvGrpSpPr>
        <p:grpSpPr>
          <a:xfrm>
            <a:off x="476280" y="1143000"/>
            <a:ext cx="7448400" cy="1557000"/>
            <a:chOff x="476280" y="1143000"/>
            <a:chExt cx="7448400" cy="1557000"/>
          </a:xfrm>
        </p:grpSpPr>
        <p:sp>
          <p:nvSpPr>
            <p:cNvPr id="106" name="Rectangle 18"/>
            <p:cNvSpPr/>
            <p:nvPr/>
          </p:nvSpPr>
          <p:spPr>
            <a:xfrm>
              <a:off x="476280" y="1143000"/>
              <a:ext cx="51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1066680" y="114300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uppose the car dealership so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new cars this year instea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In how many years will the number of new cars sold be twice the number of used cars sol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477360" y="10904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457200" y="1816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1" descr=""/>
          <p:cNvPicPr/>
          <p:nvPr/>
        </p:nvPicPr>
        <p:blipFill>
          <a:blip r:embed="rId5"/>
          <a:stretch/>
        </p:blipFill>
        <p:spPr>
          <a:xfrm>
            <a:off x="990720" y="372096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32"/>
          <p:cNvGrpSpPr/>
          <p:nvPr/>
        </p:nvGrpSpPr>
        <p:grpSpPr>
          <a:xfrm>
            <a:off x="1295280" y="5100480"/>
            <a:ext cx="6782040" cy="483840"/>
            <a:chOff x="1295280" y="5100480"/>
            <a:chExt cx="6782040" cy="483840"/>
          </a:xfrm>
        </p:grpSpPr>
        <p:sp>
          <p:nvSpPr>
            <p:cNvPr id="118" name="Text Box 23"/>
            <p:cNvSpPr/>
            <p:nvPr/>
          </p:nvSpPr>
          <p:spPr>
            <a:xfrm>
              <a:off x="5105520" y="5100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1295280" y="5100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218124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3095640" y="5100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4114800" y="5124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592920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6662880" y="5100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7848720" y="5105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580320" y="211608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420480" y="283068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1077480" y="35956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1406160" y="430056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50367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5013000" y="43498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27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142" name="Rectangle 28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9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Rectangle 30"/>
          <p:cNvSpPr/>
          <p:nvPr/>
        </p:nvSpPr>
        <p:spPr>
          <a:xfrm>
            <a:off x="597600" y="1400040"/>
            <a:ext cx="30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+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24:07Z</dcterms:modified>
  <cp:revision>326</cp:revision>
  <dc:subject/>
  <dc:title>PowerPoint Presentation</dc:title>
</cp:coreProperties>
</file>