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C1F-67EC-4AD3-B394-8C294491E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EBD-DA52-4382-8A3E-29FEAA94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BF18-B60F-4AAB-87F2-2E1CF231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8C8-639F-4449-944E-5962B7687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224-5799-4B29-B50C-EAF84B85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009-E2C7-49E7-B22A-601A7F0B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A246-2E92-4902-A3DA-FE2E900E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441-91F8-4130-B56E-E50B4A5D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E72-4C07-40D6-8965-CCA0D91B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8A3D-82C9-4FB3-B739-AAC51D2A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9458-02DA-4F2A-BFCD-53D63B1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6C67-E672-4E72-A22B-AACDE312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9CF8C-9611-4344-A7F3-0283E57D2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5"/>
          <p:cNvSpPr/>
          <p:nvPr/>
        </p:nvSpPr>
        <p:spPr>
          <a:xfrm>
            <a:off x="496440" y="24890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504720" y="10396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495720" y="17654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4493160" y="1778040"/>
            <a:ext cx="29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6"/>
          <p:cNvSpPr/>
          <p:nvPr/>
        </p:nvSpPr>
        <p:spPr>
          <a:xfrm>
            <a:off x="495720" y="320040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3872880" y="323856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1067040" y="3936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387108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495360" y="468324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5"/>
          <p:cNvGrpSpPr/>
          <p:nvPr/>
        </p:nvGrpSpPr>
        <p:grpSpPr>
          <a:xfrm>
            <a:off x="484200" y="2336760"/>
            <a:ext cx="8101080" cy="1565280"/>
            <a:chOff x="484200" y="2336760"/>
            <a:chExt cx="8101080" cy="1565280"/>
          </a:xfrm>
        </p:grpSpPr>
        <p:sp>
          <p:nvSpPr>
            <p:cNvPr id="58" name="Rectangle 22"/>
            <p:cNvSpPr/>
            <p:nvPr/>
          </p:nvSpPr>
          <p:spPr>
            <a:xfrm>
              <a:off x="521280" y="2336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84200" y="307656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=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4"/>
          <p:cNvSpPr/>
          <p:nvPr/>
        </p:nvSpPr>
        <p:spPr>
          <a:xfrm>
            <a:off x="4466520" y="1673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838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4478400" y="941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0"/>
          <p:cNvGrpSpPr/>
          <p:nvPr/>
        </p:nvGrpSpPr>
        <p:grpSpPr>
          <a:xfrm>
            <a:off x="1601640" y="1638360"/>
            <a:ext cx="1217880" cy="459720"/>
            <a:chOff x="1601640" y="1638360"/>
            <a:chExt cx="1217880" cy="459720"/>
          </a:xfrm>
        </p:grpSpPr>
        <p:sp>
          <p:nvSpPr>
            <p:cNvPr id="64" name="Rectangle 23"/>
            <p:cNvSpPr/>
            <p:nvPr/>
          </p:nvSpPr>
          <p:spPr>
            <a:xfrm>
              <a:off x="1601640" y="16383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29" descr=""/>
            <p:cNvPicPr/>
            <p:nvPr/>
          </p:nvPicPr>
          <p:blipFill>
            <a:blip r:embed="rId1"/>
            <a:stretch/>
          </p:blipFill>
          <p:spPr>
            <a:xfrm>
              <a:off x="2571840" y="170172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" name="Object 3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32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501480" y="9144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3874320" y="9604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1054080" y="16509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3868200" y="1684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3"/>
          <p:cNvGrpSpPr/>
          <p:nvPr/>
        </p:nvGrpSpPr>
        <p:grpSpPr>
          <a:xfrm>
            <a:off x="507960" y="2374920"/>
            <a:ext cx="8102520" cy="1749960"/>
            <a:chOff x="507960" y="2374920"/>
            <a:chExt cx="8102520" cy="1749960"/>
          </a:xfrm>
        </p:grpSpPr>
        <p:sp>
          <p:nvSpPr>
            <p:cNvPr id="80" name="Rectangle 40"/>
            <p:cNvSpPr/>
            <p:nvPr/>
          </p:nvSpPr>
          <p:spPr>
            <a:xfrm>
              <a:off x="524160" y="2374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07960" y="293364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ice that 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Object 4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07960" y="9907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54080" y="261612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872880" y="26542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067400" y="3352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387108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495360" y="409896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84200" y="2476440"/>
            <a:ext cx="8101080" cy="1565280"/>
            <a:chOff x="484200" y="2476440"/>
            <a:chExt cx="8101080" cy="1565280"/>
          </a:xfrm>
        </p:grpSpPr>
        <p:sp>
          <p:nvSpPr>
            <p:cNvPr id="106" name="Rectangle 18"/>
            <p:cNvSpPr/>
            <p:nvPr/>
          </p:nvSpPr>
          <p:spPr>
            <a:xfrm>
              <a:off x="521280" y="247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484200" y="32162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4466520" y="1812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839520" y="1054080"/>
            <a:ext cx="34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78400" y="1081080"/>
            <a:ext cx="34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2033280" y="1778040"/>
            <a:ext cx="1256040" cy="459720"/>
            <a:chOff x="2033280" y="1778040"/>
            <a:chExt cx="1256040" cy="459720"/>
          </a:xfrm>
        </p:grpSpPr>
        <p:sp>
          <p:nvSpPr>
            <p:cNvPr id="112" name="Rectangle 24"/>
            <p:cNvSpPr/>
            <p:nvPr/>
          </p:nvSpPr>
          <p:spPr>
            <a:xfrm>
              <a:off x="2033280" y="17780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25" descr=""/>
            <p:cNvPicPr/>
            <p:nvPr/>
          </p:nvPicPr>
          <p:blipFill>
            <a:blip r:embed="rId5"/>
            <a:stretch/>
          </p:blipFill>
          <p:spPr>
            <a:xfrm>
              <a:off x="3041640" y="1841760"/>
              <a:ext cx="2476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9040" y="990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055160" y="26161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861000" y="340200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538280" y="3352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871080" y="266544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4"/>
          <p:cNvGrpSpPr/>
          <p:nvPr/>
        </p:nvGrpSpPr>
        <p:grpSpPr>
          <a:xfrm>
            <a:off x="484200" y="4152960"/>
            <a:ext cx="8101080" cy="1199520"/>
            <a:chOff x="484200" y="4152960"/>
            <a:chExt cx="8101080" cy="1199520"/>
          </a:xfrm>
        </p:grpSpPr>
        <p:sp>
          <p:nvSpPr>
            <p:cNvPr id="127" name="Rectangle 15"/>
            <p:cNvSpPr/>
            <p:nvPr/>
          </p:nvSpPr>
          <p:spPr>
            <a:xfrm>
              <a:off x="521280" y="4152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84200" y="48927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07600" y="9907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90360" y="26161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86172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334160" y="335268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72880" y="2664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9800" y="4121280"/>
            <a:ext cx="8102520" cy="1749960"/>
            <a:chOff x="469800" y="4121280"/>
            <a:chExt cx="8102520" cy="1749960"/>
          </a:xfrm>
        </p:grpSpPr>
        <p:sp>
          <p:nvSpPr>
            <p:cNvPr id="142" name="Rectangle 13"/>
            <p:cNvSpPr/>
            <p:nvPr/>
          </p:nvSpPr>
          <p:spPr>
            <a:xfrm>
              <a:off x="486000" y="4121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9800" y="468000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6:03Z</dcterms:modified>
  <cp:revision>61</cp:revision>
  <dc:subject/>
  <dc:title>PowerPoint Presentation</dc:title>
</cp:coreProperties>
</file>