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EDB-BC6D-43A5-AAB3-AB2348BD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1F1-459B-4EA2-8072-4BD21E53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DAF-3460-472A-B06F-2325A180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8F9-5688-46CC-983C-FADF31C1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BF8-9FFD-4E41-9171-58AA022A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2BE-5DF2-483C-84A7-E9C9A2C6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C99-877E-41DF-B164-12DA6065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8C3-903B-4F7B-8D97-E98A38C5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D37-32BC-4EB0-87CB-B3DB2B41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1DB-FAC3-4EF6-B112-62CD1376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811-DAA3-45BF-AFD6-714ADE18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330-04FC-4E96-9E6F-A25CDF9C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3B68-946A-43DD-9AD0-216F6290B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5"/>
          <p:cNvSpPr/>
          <p:nvPr/>
        </p:nvSpPr>
        <p:spPr>
          <a:xfrm>
            <a:off x="496440" y="24890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2"/>
          <p:cNvSpPr/>
          <p:nvPr/>
        </p:nvSpPr>
        <p:spPr>
          <a:xfrm>
            <a:off x="504720" y="103968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3"/>
          <p:cNvSpPr/>
          <p:nvPr/>
        </p:nvSpPr>
        <p:spPr>
          <a:xfrm>
            <a:off x="495720" y="176544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4"/>
          <p:cNvSpPr/>
          <p:nvPr/>
        </p:nvSpPr>
        <p:spPr>
          <a:xfrm>
            <a:off x="4493160" y="1778040"/>
            <a:ext cx="29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6"/>
          <p:cNvSpPr/>
          <p:nvPr/>
        </p:nvSpPr>
        <p:spPr>
          <a:xfrm>
            <a:off x="495720" y="320040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7"/>
          <p:cNvSpPr/>
          <p:nvPr/>
        </p:nvSpPr>
        <p:spPr>
          <a:xfrm>
            <a:off x="3872880" y="323856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1067040" y="3936960"/>
            <a:ext cx="17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9"/>
          <p:cNvSpPr/>
          <p:nvPr/>
        </p:nvSpPr>
        <p:spPr>
          <a:xfrm>
            <a:off x="3871080" y="39844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495360" y="4683240"/>
            <a:ext cx="81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true because the 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be equal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re than itself. So, the equation has no solution. This can be demonstrated by continuing to solve the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35"/>
          <p:cNvGrpSpPr/>
          <p:nvPr/>
        </p:nvGrpSpPr>
        <p:grpSpPr>
          <a:xfrm>
            <a:off x="484200" y="2336760"/>
            <a:ext cx="8101080" cy="1565280"/>
            <a:chOff x="484200" y="2336760"/>
            <a:chExt cx="8101080" cy="1565280"/>
          </a:xfrm>
        </p:grpSpPr>
        <p:sp>
          <p:nvSpPr>
            <p:cNvPr id="58" name="Rectangle 22"/>
            <p:cNvSpPr/>
            <p:nvPr/>
          </p:nvSpPr>
          <p:spPr>
            <a:xfrm>
              <a:off x="521280" y="2336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484200" y="3076560"/>
              <a:ext cx="81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= 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not true, so the equation h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Rectangle 24"/>
          <p:cNvSpPr/>
          <p:nvPr/>
        </p:nvSpPr>
        <p:spPr>
          <a:xfrm>
            <a:off x="4466520" y="1673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838080" y="914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4478400" y="9414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30"/>
          <p:cNvGrpSpPr/>
          <p:nvPr/>
        </p:nvGrpSpPr>
        <p:grpSpPr>
          <a:xfrm>
            <a:off x="1601640" y="1638360"/>
            <a:ext cx="1217880" cy="459720"/>
            <a:chOff x="1601640" y="1638360"/>
            <a:chExt cx="1217880" cy="459720"/>
          </a:xfrm>
        </p:grpSpPr>
        <p:sp>
          <p:nvSpPr>
            <p:cNvPr id="64" name="Rectangle 23"/>
            <p:cNvSpPr/>
            <p:nvPr/>
          </p:nvSpPr>
          <p:spPr>
            <a:xfrm>
              <a:off x="1601640" y="1638360"/>
              <a:ext cx="96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Picture 29" descr=""/>
            <p:cNvPicPr/>
            <p:nvPr/>
          </p:nvPicPr>
          <p:blipFill>
            <a:blip r:embed="rId1"/>
            <a:stretch/>
          </p:blipFill>
          <p:spPr>
            <a:xfrm>
              <a:off x="2571840" y="1701720"/>
              <a:ext cx="247680" cy="30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6" name="Object 3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32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3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Object 3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501480" y="914400"/>
            <a:ext cx="29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3874320" y="96048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8"/>
          <p:cNvSpPr/>
          <p:nvPr/>
        </p:nvSpPr>
        <p:spPr>
          <a:xfrm>
            <a:off x="1054080" y="16509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3868200" y="16844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43"/>
          <p:cNvGrpSpPr/>
          <p:nvPr/>
        </p:nvGrpSpPr>
        <p:grpSpPr>
          <a:xfrm>
            <a:off x="507960" y="2374920"/>
            <a:ext cx="8102520" cy="1749960"/>
            <a:chOff x="507960" y="2374920"/>
            <a:chExt cx="8102520" cy="1749960"/>
          </a:xfrm>
        </p:grpSpPr>
        <p:sp>
          <p:nvSpPr>
            <p:cNvPr id="80" name="Rectangle 40"/>
            <p:cNvSpPr/>
            <p:nvPr/>
          </p:nvSpPr>
          <p:spPr>
            <a:xfrm>
              <a:off x="524160" y="2374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41"/>
            <p:cNvSpPr/>
            <p:nvPr/>
          </p:nvSpPr>
          <p:spPr>
            <a:xfrm>
              <a:off x="507960" y="2933640"/>
              <a:ext cx="81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tice that 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0 =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true for all valu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So, the equation is an identity, and the solution is all real numb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" name="Object 4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4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507960" y="9907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1054080" y="2616120"/>
            <a:ext cx="23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3872880" y="265428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067400" y="3352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3871080" y="340056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495360" y="4098960"/>
            <a:ext cx="81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true because the 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be equal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re than itself. So, the equation has no solution. This can be demonstrated by continuing to solve the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7"/>
          <p:cNvGrpSpPr/>
          <p:nvPr/>
        </p:nvGrpSpPr>
        <p:grpSpPr>
          <a:xfrm>
            <a:off x="484200" y="2476440"/>
            <a:ext cx="8101080" cy="1565280"/>
            <a:chOff x="484200" y="2476440"/>
            <a:chExt cx="8101080" cy="1565280"/>
          </a:xfrm>
        </p:grpSpPr>
        <p:sp>
          <p:nvSpPr>
            <p:cNvPr id="106" name="Rectangle 18"/>
            <p:cNvSpPr/>
            <p:nvPr/>
          </p:nvSpPr>
          <p:spPr>
            <a:xfrm>
              <a:off x="521280" y="2476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484200" y="3216240"/>
              <a:ext cx="81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not true, so the equation h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20"/>
          <p:cNvSpPr/>
          <p:nvPr/>
        </p:nvSpPr>
        <p:spPr>
          <a:xfrm>
            <a:off x="4466520" y="1812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839520" y="1054080"/>
            <a:ext cx="34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4478400" y="1081080"/>
            <a:ext cx="344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26"/>
          <p:cNvGrpSpPr/>
          <p:nvPr/>
        </p:nvGrpSpPr>
        <p:grpSpPr>
          <a:xfrm>
            <a:off x="2033280" y="1778040"/>
            <a:ext cx="1256040" cy="459720"/>
            <a:chOff x="2033280" y="1778040"/>
            <a:chExt cx="1256040" cy="459720"/>
          </a:xfrm>
        </p:grpSpPr>
        <p:sp>
          <p:nvSpPr>
            <p:cNvPr id="112" name="Rectangle 24"/>
            <p:cNvSpPr/>
            <p:nvPr/>
          </p:nvSpPr>
          <p:spPr>
            <a:xfrm>
              <a:off x="2033280" y="177804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Picture 25" descr=""/>
            <p:cNvPicPr/>
            <p:nvPr/>
          </p:nvPicPr>
          <p:blipFill>
            <a:blip r:embed="rId5"/>
            <a:stretch/>
          </p:blipFill>
          <p:spPr>
            <a:xfrm>
              <a:off x="3041640" y="1841760"/>
              <a:ext cx="24768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09040" y="99072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055160" y="26161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861000" y="340200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538280" y="33526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871080" y="2665440"/>
            <a:ext cx="35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4"/>
          <p:cNvGrpSpPr/>
          <p:nvPr/>
        </p:nvGrpSpPr>
        <p:grpSpPr>
          <a:xfrm>
            <a:off x="484200" y="4152960"/>
            <a:ext cx="8101080" cy="1199520"/>
            <a:chOff x="484200" y="4152960"/>
            <a:chExt cx="8101080" cy="1199520"/>
          </a:xfrm>
        </p:grpSpPr>
        <p:sp>
          <p:nvSpPr>
            <p:cNvPr id="127" name="Rectangle 15"/>
            <p:cNvSpPr/>
            <p:nvPr/>
          </p:nvSpPr>
          <p:spPr>
            <a:xfrm>
              <a:off x="521280" y="41529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484200" y="48927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507600" y="9907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990360" y="26161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861720" y="340056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1334160" y="3352680"/>
            <a:ext cx="20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872880" y="26640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2"/>
          <p:cNvGrpSpPr/>
          <p:nvPr/>
        </p:nvGrpSpPr>
        <p:grpSpPr>
          <a:xfrm>
            <a:off x="469800" y="4121280"/>
            <a:ext cx="8102520" cy="1749960"/>
            <a:chOff x="469800" y="4121280"/>
            <a:chExt cx="8102520" cy="1749960"/>
          </a:xfrm>
        </p:grpSpPr>
        <p:sp>
          <p:nvSpPr>
            <p:cNvPr id="142" name="Rectangle 13"/>
            <p:cNvSpPr/>
            <p:nvPr/>
          </p:nvSpPr>
          <p:spPr>
            <a:xfrm>
              <a:off x="486000" y="41212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469800" y="4680000"/>
              <a:ext cx="81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=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true for all valu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the equation is an identity, and the solution is all real numb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26:03Z</dcterms:modified>
  <cp:revision>61</cp:revision>
  <dc:subject/>
  <dc:title>PowerPoint Presentation</dc:title>
</cp:coreProperties>
</file>