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656-83E3-4CAE-A627-727ED94D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2D6-09ED-4EF9-AA2F-7C31858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C52-ECA9-4A8F-AF27-D9776903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00F-3D72-4E0D-A791-147F63BC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84F-8F37-4D4E-82CC-C767093F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60B-F4A9-4971-A398-C040252B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9C7-9F2C-4AE7-82C1-5075E23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EC7-C55B-406B-881D-B6D71AF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BA4-10A2-4F15-B28A-AEE0520D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CA8-C19D-452C-A11F-905E2A09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3CC-B9A6-4050-B9D7-1EEC6C5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9BD-835C-4DF7-83CA-D8E767F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7DF1-90C2-4A5B-A6D3-1165194F5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9T01:13:14Z</dcterms:modified>
  <cp:revision>19</cp:revision>
  <dc:subject/>
  <dc:title>PowerPoint Presentation</dc:title>
</cp:coreProperties>
</file>