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EAA8-0320-4FBB-8E9D-383612E5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139-A061-44FF-B0CC-4AC77EF7A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F856-67AD-4684-AED0-746E8943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BB40-2DB7-4A0E-BD5A-6C16163C3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7F5F-92BA-4183-B071-6CDAD7E7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5A9B-F708-4FB2-B989-EF27C56F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BD39-50FF-44AF-9699-FDB58479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CD23-615C-465C-B614-FD79E319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C495-5ABA-4768-B630-07012C6B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4AD-4340-4348-B0E2-C2E3D155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556F-F370-47D4-9948-5CD07236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AAE8-8A76-483E-8D06-AE44B27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78D37-DAF6-44CF-8E80-40CFE551E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7T03:24:49Z</dcterms:modified>
  <cp:revision>19</cp:revision>
  <dc:subject/>
  <dc:title>PowerPoint Presentation</dc:title>
</cp:coreProperties>
</file>