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2F18-2569-495C-883A-9E72C0463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73F4-3EBB-460D-BF3D-AF78D4C7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F127-AE9D-4D9B-9D0E-3062E6FB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4E0E-72C0-4835-A821-0D208346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A299-ABFD-49B7-ADA1-A1EF2A54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961C-B0B3-4518-A758-4CDF25248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F7B-12FF-4563-9CE4-1D10D3AB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FC6B-C640-45AD-9910-12BAA44F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5A3F-F28E-4134-BA66-03FD2F889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9EF-65E3-4D30-BD6F-ABE4CDB2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5BB-CDD3-4322-B5CE-4781DD3B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0A4-47FA-49C5-9C56-6EFB4EA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B7BC-6EC5-4C61-9E67-464A1C0B2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7T03:24:49Z</dcterms:modified>
  <cp:revision>19</cp:revision>
  <dc:subject/>
  <dc:title>PowerPoint Presentation</dc:title>
</cp:coreProperties>
</file>